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956-F80E-4230-AD6F-14D9DC9B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62E-95D0-449B-B5A8-C6DED71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81D-BCB6-49DC-9866-EF0ACD94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2F8-7AF3-43C0-9D6B-22D1F5A7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A63B-B9C6-47E6-8FDB-57528FFD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750-B60C-42E2-A72C-2AEEF73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3FA9-B05F-4C5D-B5E5-54B6AC82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F511-7E85-47B8-8D22-7508B259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CFA6-A9B5-4362-A437-3C2D2A0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AB3B-3521-48B3-B292-7E3DBBF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823-A328-40E5-B611-D111D53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C8A-D9E6-40E3-8D63-CBCA81CD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43AE-6196-45FC-B8F6-6E51C5D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CED-76BB-448F-AFDD-87AD407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38DF-D641-462D-9EEB-AD5E0D49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367-9268-45A2-AC98-ABAC92D6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9C43-AA01-4AD9-BA8B-8CD7FD47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7D0C-15C4-4F90-8916-A687227A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A71E-AD25-407C-BEF8-F65630B0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1908-1837-4FE5-ACA0-ADD5C1E3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34B2-C1B8-4598-AE20-E1B92D19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B6FD-05AA-4117-B6EE-6C52574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8F1-CEAC-4EAC-86A5-49962324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513B-EC0F-4D57-BD0E-D5E948C7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7AB8-0DF8-4879-887F-4EA7AEC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816A-24A4-4CDB-9CCF-2D91636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303E-F28E-4B34-9BFB-2A5627B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4C7A-3642-4920-887C-45189AC8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10BD-4628-4FCA-8541-F45D39A7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A827-BD68-47CE-A278-83538F02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85E3-AB44-4903-AB47-8C445434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CAA7-411B-4F1F-B790-AC5C1A1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C854-F5DA-4409-9584-41ABCE76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7E9-FD33-4F4A-951E-4ABBA84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DAF9-3647-4E8A-AA25-D43CEACA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4AF8-28FC-42AA-9546-886D8D5A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612A-826E-4CE0-AB2A-E4BD9B8B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AD5AD-8D1A-414F-B4A3-24EB3A5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BB68-FE63-4C1D-BA00-A0BF1EB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FC97-6183-44E4-819C-2A3E2A2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8DF1-7258-40D3-BE4D-3E1431D9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0C6C-90D5-4D45-9F86-AB35D80D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3D79-FEC1-4C81-8E1B-92DAE6AD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628D9-4DBE-4B89-8736-16065BD1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42B-8F66-48C7-980E-01C8B90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0CBDF-DEFC-40C5-A3D6-A5F3E4B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DED4-1BF8-45E1-B8C8-6BEC336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002E-7377-4234-ADDB-3FB86A86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ED77C-DF36-4946-BA9D-DDDC2C7A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9B288-AA0B-4E98-AFAF-CF57A53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8AD5-4A5E-4393-878E-C331D41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E88D-B12A-43A1-A9F2-36787A3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189C3-4100-4AC1-A82A-0A9064F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BFE9-1143-4C02-9A48-5B5604CB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582CA-5A88-4763-85D4-F7AB3127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012-64D8-4B38-85C5-C9A4BD53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3F7B-8168-44D7-BB63-FC46EDF8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C491-9B6C-45E5-A803-FFC1CAAC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1BD5-FF64-4C35-A062-67FCDBE5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5BC8-9785-4476-A91C-A3E2CB74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8021-4768-4971-8E88-3A248335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7BA5-A76B-4188-856E-BEBBD19B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45C2E-C150-4BAD-BCB7-1693FDF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F9C83-A9FB-4ABE-9E24-7F37A19A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ECF7-EF26-41A9-9F90-86A353E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3ACA-D199-4375-8D02-144369B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3F6-41C2-4761-A81C-102D167D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DFB9B-F43B-41AC-8B79-F4F190C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393E-6568-4A69-8F99-BFF8507B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1117-B4FD-4A1F-B9A7-852B675F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F023-26B6-4E35-9A68-AF72A823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59F9-08F9-4668-91F4-6448E971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865D6-A215-492A-AF90-FAD657B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E46A-28B6-4E8A-B3FE-DD968A5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166A-E7B8-466C-B02B-2D1DAF72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2F64-3A78-46DD-AB4E-7895DDC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F9CC2-04BC-4E1B-ADD0-A4AF5D4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5E4-9C03-40EB-AADE-3374D541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C36D9-7497-466B-AB2E-EFD6AB3D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EEE69-F402-4B6E-A518-BC6A34D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0F3A-1738-494D-AA2F-C6D7288C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54052-ED46-40B4-AC44-29D4A4A1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2FAC-8874-4522-99F3-16229FBB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13D-B946-4697-8E06-014367C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75A-FD75-4025-80A7-9A3F2565BF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A88-5AD1-4240-BEE6-B267633368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DF3-04E2-4A60-8F20-535655DFD1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7A3-CA57-4C19-8388-4694EC515E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3CA-CBD9-4AF1-BA7A-EBD7E5E566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F12F-E703-47C5-8183-8A3F4462D7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4B0-9F7A-4D64-8A05-CC26C5CE56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0" descr="01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4026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11617"/>
                </a:solidFill>
                <a:latin typeface="Arial"/>
              </a:rPr>
              <a:t>Технологии креативного мышления</a:t>
            </a:r>
            <a:br>
              <a:rPr sz="3600"/>
            </a:br>
            <a:br>
              <a:rPr sz="4800"/>
            </a:br>
            <a:r>
              <a:rPr b="1" lang="ru-RU" sz="4800" spc="-1" strike="noStrike">
                <a:solidFill>
                  <a:srgbClr val="425519"/>
                </a:solidFill>
                <a:latin typeface="Arial"/>
              </a:rPr>
              <a:t> «Шесть шляп, или Наследство старого Мастера»</a:t>
            </a:r>
            <a:br>
              <a:rPr sz="4800"/>
            </a:br>
            <a:endParaRPr b="0" lang="en-US" sz="4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4267080" y="50292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Главное:</a:t>
            </a:r>
            <a:r>
              <a:rPr b="1" lang="ru-RU" sz="4000" spc="-1" strike="noStrike">
                <a:solidFill>
                  <a:srgbClr val="425519"/>
                </a:solidFill>
                <a:latin typeface="Arial"/>
              </a:rPr>
              <a:t> метод даёт возможность определять правила игры, а изучение правил является одной из самых перспективных форм накопления знаний в детские г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440" y="1447560"/>
            <a:ext cx="824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В методе шести шляп 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мышление делится на шесть различных режимов</a:t>
            </a:r>
            <a:r>
              <a:rPr b="0" lang="ru-RU" sz="4400" spc="-1" strike="noStrike">
                <a:solidFill>
                  <a:srgbClr val="232d47"/>
                </a:solidFill>
                <a:latin typeface="Times New Roman"/>
              </a:rPr>
              <a:t>, каждый из которых представлен шляпой своего цвет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Бел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0" name="Picture 4" descr="whitehat"/>
          <p:cNvPicPr/>
          <p:nvPr/>
        </p:nvPicPr>
        <p:blipFill>
          <a:blip r:embed="rId1"/>
          <a:stretch/>
        </p:blipFill>
        <p:spPr>
          <a:xfrm>
            <a:off x="1295280" y="1828800"/>
            <a:ext cx="2025720" cy="29718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3886200" y="144792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нформация. Вопросы. Какой мы обладаем информацией? Какая нам нужна информаци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Arial"/>
              </a:rPr>
              <a:t>Крас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Эмоции. Интуиция, чувства и предчувствия. Не требуется давать обоснование чувствам. Какие у меня по этому поводу возникают чувств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Arial"/>
              </a:rPr>
              <a:t>Чёр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blackhat"/>
          <p:cNvPicPr/>
          <p:nvPr/>
        </p:nvPicPr>
        <p:blipFill>
          <a:blip r:embed="rId2"/>
          <a:stretch/>
        </p:blipFill>
        <p:spPr>
          <a:xfrm>
            <a:off x="1490760" y="29718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3733920" y="19810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торожность. Суждение. Оценка. Правда ли это? Сработает ли это? В чем недостатки? Что здесь неправиль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00"/>
                </a:solidFill>
                <a:latin typeface="Arial"/>
              </a:rPr>
              <a:t>Жёлт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657600" y="17521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425519"/>
                </a:solidFill>
                <a:latin typeface="Times New Roman"/>
              </a:rPr>
              <a:t>Преимущества. Почему это стоит сделать? Каковы преимущества? Почему это можно сделать? Почему это сработает?</a:t>
            </a:r>
            <a:r>
              <a:rPr b="0" lang="ru-RU" sz="3600" spc="-1" strike="noStrike">
                <a:solidFill>
                  <a:srgbClr val="42551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yellowhat"/>
          <p:cNvPicPr/>
          <p:nvPr/>
        </p:nvPicPr>
        <p:blipFill>
          <a:blip r:embed="rId1"/>
          <a:stretch/>
        </p:blipFill>
        <p:spPr>
          <a:xfrm>
            <a:off x="1023840" y="2514600"/>
            <a:ext cx="2252880" cy="26668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3809880" y="351648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25519"/>
                </a:solidFill>
                <a:latin typeface="Arial"/>
              </a:rPr>
              <a:t>Зелёна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</a:rPr>
              <a:t>Творчество. Различные идеи. Новые идеи. Предложения. Каковы некоторые из возможных решений и действий? Каковы альтернатив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7" descr="greenhat"/>
          <p:cNvPicPr/>
          <p:nvPr/>
        </p:nvPicPr>
        <p:blipFill>
          <a:blip r:embed="rId1"/>
          <a:stretch/>
        </p:blipFill>
        <p:spPr>
          <a:xfrm>
            <a:off x="1197000" y="2286000"/>
            <a:ext cx="2900160" cy="29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232d47"/>
                </a:solidFill>
                <a:latin typeface="Arial"/>
              </a:rPr>
              <a:t>Синяя шляпа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76720" y="1447560"/>
            <a:ext cx="5410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Организация мышления. Мышление о мышлении. Чего мы достигли? Что нужно сделать дальш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5" descr="bluehat"/>
          <p:cNvPicPr/>
          <p:nvPr/>
        </p:nvPicPr>
        <p:blipFill>
          <a:blip r:embed="rId1"/>
          <a:stretch/>
        </p:blipFill>
        <p:spPr>
          <a:xfrm>
            <a:off x="804960" y="2362320"/>
            <a:ext cx="2547720" cy="320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66520" y="46479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Технология 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«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Шесть шляп мышления</a:t>
            </a:r>
            <a:r>
              <a:rPr b="1" lang="en-US" sz="2500" spc="-1" strike="noStrike">
                <a:solidFill>
                  <a:srgbClr val="232d47"/>
                </a:solidFill>
                <a:latin typeface="Book Antiqua"/>
              </a:rPr>
              <a:t>»</a:t>
            </a:r>
            <a:r>
              <a:rPr b="1" lang="ru-RU" sz="2500" spc="-1" strike="noStrike">
                <a:solidFill>
                  <a:srgbClr val="232d47"/>
                </a:solidFill>
                <a:latin typeface="Times New Roman"/>
              </a:rPr>
              <a:t> Эдварда де Боно позволяет развивать у взрослых и детей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00200" y="3048120"/>
            <a:ext cx="7162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вор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критическ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b22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толер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11"/>
          <p:cNvGrpSpPr/>
          <p:nvPr/>
        </p:nvGrpSpPr>
        <p:grpSpPr>
          <a:xfrm>
            <a:off x="304920" y="380880"/>
            <a:ext cx="8578800" cy="1066680"/>
            <a:chOff x="304920" y="380880"/>
            <a:chExt cx="8578800" cy="1066680"/>
          </a:xfrm>
        </p:grpSpPr>
        <p:pic>
          <p:nvPicPr>
            <p:cNvPr id="373" name="Picture 5" descr="redhat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6" descr="whitehat"/>
            <p:cNvPicPr/>
            <p:nvPr/>
          </p:nvPicPr>
          <p:blipFill>
            <a:blip r:embed="rId2"/>
            <a:stretch/>
          </p:blipFill>
          <p:spPr>
            <a:xfrm>
              <a:off x="1730520" y="380880"/>
              <a:ext cx="1143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7" descr="blackhat"/>
            <p:cNvPicPr/>
            <p:nvPr/>
          </p:nvPicPr>
          <p:blipFill>
            <a:blip r:embed="rId3"/>
            <a:stretch/>
          </p:blipFill>
          <p:spPr>
            <a:xfrm>
              <a:off x="3156120" y="380880"/>
              <a:ext cx="1143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8" descr="yellowhat"/>
            <p:cNvPicPr/>
            <p:nvPr/>
          </p:nvPicPr>
          <p:blipFill>
            <a:blip r:embed="rId4"/>
            <a:stretch/>
          </p:blipFill>
          <p:spPr>
            <a:xfrm>
              <a:off x="4583160" y="380880"/>
              <a:ext cx="11430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9" descr="greenhat"/>
            <p:cNvPicPr/>
            <p:nvPr/>
          </p:nvPicPr>
          <p:blipFill>
            <a:blip r:embed="rId5"/>
            <a:stretch/>
          </p:blipFill>
          <p:spPr>
            <a:xfrm>
              <a:off x="6008760" y="380880"/>
              <a:ext cx="12952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" descr="bluehat"/>
            <p:cNvPicPr/>
            <p:nvPr/>
          </p:nvPicPr>
          <p:blipFill>
            <a:blip r:embed="rId6"/>
            <a:stretch/>
          </p:blipFill>
          <p:spPr>
            <a:xfrm>
              <a:off x="7588440" y="380880"/>
              <a:ext cx="12952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723960" y="457200"/>
          <a:ext cx="78865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57200"/>
                    <a:ext cx="7886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ель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здать представление о технологии Эдварда де Бон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Шесть шляп мышления»</a:t>
            </a:r>
            <a:endParaRPr b="0" lang="en-US" sz="24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18960" y="1523880"/>
            <a:ext cx="34290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Задача миниму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овладеть приёмами представленной техн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повысить уровень качества методики построения уро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5519"/>
                </a:solidFill>
                <a:latin typeface="Arial"/>
              </a:rPr>
              <a:t>научить учащихся эффективно мыслить, решать и действов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2880" y="1523880"/>
            <a:ext cx="3981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Задача максимум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эффективно управлять своим мышлением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научиться преодолевать беспорядочность, стихийность течения мыслей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4b2203"/>
                </a:solidFill>
                <a:latin typeface="Arial"/>
              </a:rPr>
              <a:t>в нужных ситуациях уметь отделить логику от эмоций, желаемое от действительного, фантазии от фактов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новные принципы его развития</a:t>
            </a:r>
            <a:br>
              <a:rPr sz="4000"/>
            </a:b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5" name="Picture 7" descr="Edward_de_Bono"/>
          <p:cNvPicPr/>
          <p:nvPr/>
        </p:nvPicPr>
        <p:blipFill>
          <a:blip r:embed="rId1"/>
          <a:stretch/>
        </p:blipFill>
        <p:spPr>
          <a:xfrm>
            <a:off x="1228680" y="2057400"/>
            <a:ext cx="2776680" cy="40384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962160" y="1523880"/>
            <a:ext cx="49719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выделение необходимых и достаточных условий решения задач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отказу от прежнего опыта решения аналогичных зада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идению различных аспектов одного явле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выделению и осознанию основного противоречия в проблем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развитие способности к «объединению противоположностей» и использование данного ресурса для решения задач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то такое «Шесть шляп мышления»?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pic>
        <p:nvPicPr>
          <p:cNvPr id="328" name="Picture 6" descr="popurry_10323big"/>
          <p:cNvPicPr/>
          <p:nvPr/>
        </p:nvPicPr>
        <p:blipFill>
          <a:blip r:embed="rId1"/>
          <a:stretch/>
        </p:blipFill>
        <p:spPr>
          <a:xfrm>
            <a:off x="1123920" y="1752480"/>
            <a:ext cx="2838600" cy="38577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"/>
          <p:cNvSpPr/>
          <p:nvPr/>
        </p:nvSpPr>
        <p:spPr>
          <a:xfrm>
            <a:off x="4267080" y="18288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Arial"/>
              </a:rPr>
              <a:t>Это - 6 различных режимов, рамками которых человек может очертить процесс своего мышления в тот или иной момент, исходя из обстоятельств любой конкретной ситуации в быту или бизнесе, чтобы направить её развитие в лучшую сторон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2d47"/>
                </a:solidFill>
                <a:latin typeface="Arial"/>
              </a:rPr>
              <a:t>Концепция «Шести шляп»</a:t>
            </a:r>
            <a:endParaRPr b="0" lang="en-US" sz="40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Это - простой, но эффективный метод, позволяющий стать лучшим мыслителе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Боно разделяет мышление на шесть отличных друг от друга режимов, обозначенных шляпами разного цвета. «Надевание» шляпы фокусирует мышление, «смена» шляпы изменяет его направление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Arial"/>
              </a:rPr>
              <a:t>Когда разные части мыслительного процесса четко определены, мышление может стать более сосредоточенным и продуктивным.</a:t>
            </a: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Используя в качестве примеров ситуации из реальной жизни, доктор де Боно создает сценарии, которые показывают, как эффективнее использовать шляпы мышле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b2203"/>
                </a:solidFill>
                <a:latin typeface="Arial"/>
              </a:rPr>
              <a:t>Концепции Эдварда де Боно применяются крупнейшими корпорациями мира. «Шесть шляп мышления» ясно иллюстрирует, почему они сочли важным применить эти идеи в своих техниках менеджмен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d47"/>
                </a:solidFill>
                <a:latin typeface="Arial"/>
              </a:rPr>
              <a:t>Шесть шляп – метод тренировки группового мышления</a:t>
            </a:r>
            <a:endParaRPr b="0" lang="en-US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Особенности группов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Почему решение сложных проблем зачастую проще осуществлять индивидуально, а не в команде. Что мешает максимально эффективно использовать потенциал всех участников коман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Принципы параллельного мыш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лучшить коммуникацию в коман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Концепция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ие существуют типы мышления. Почему необходимо использовать все типы. Как структурировать и организовать групповое мыш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спользование последовательностей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овы эффективные последовательности типов мышления. Как пользоваться инструментами группового мыш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Индивидуальное использование Шести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быстро найти эффективное решение, взглянув на ситуацию "под другим углом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</a:rPr>
              <a:t>Системное использование Шляп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</a:rPr>
              <a:t>Как управлять групповым мышл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Arial"/>
              </a:rPr>
              <a:t>Почему «Шесть шляп»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8951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-первых</a:t>
            </a:r>
            <a:r>
              <a:rPr b="0" lang="ru-RU" sz="28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каждой из шести шляп соответствует свой собственный, индивидуальный цвет, делающий её легко различимой среди всех остальных,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4b2203"/>
                </a:solidFill>
                <a:latin typeface="Arial"/>
              </a:rPr>
              <a:t> меняя шляпу, мы «дирижируем оркестром своих мыслей», придаём им нужное направл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4" descr="redhat"/>
          <p:cNvPicPr/>
          <p:nvPr/>
        </p:nvPicPr>
        <p:blipFill>
          <a:blip r:embed="rId1"/>
          <a:stretch/>
        </p:blipFill>
        <p:spPr>
          <a:xfrm>
            <a:off x="533520" y="1447920"/>
            <a:ext cx="1143000" cy="990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whitehat"/>
          <p:cNvPicPr/>
          <p:nvPr/>
        </p:nvPicPr>
        <p:blipFill>
          <a:blip r:embed="rId2"/>
          <a:stretch/>
        </p:blipFill>
        <p:spPr>
          <a:xfrm>
            <a:off x="533520" y="2438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blackhat"/>
          <p:cNvPicPr/>
          <p:nvPr/>
        </p:nvPicPr>
        <p:blipFill>
          <a:blip r:embed="rId3"/>
          <a:stretch/>
        </p:blipFill>
        <p:spPr>
          <a:xfrm>
            <a:off x="533520" y="335268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yellowhat"/>
          <p:cNvPicPr/>
          <p:nvPr/>
        </p:nvPicPr>
        <p:blipFill>
          <a:blip r:embed="rId4"/>
          <a:stretch/>
        </p:blipFill>
        <p:spPr>
          <a:xfrm>
            <a:off x="533520" y="434340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greenhat"/>
          <p:cNvPicPr/>
          <p:nvPr/>
        </p:nvPicPr>
        <p:blipFill>
          <a:blip r:embed="rId5"/>
          <a:stretch/>
        </p:blipFill>
        <p:spPr>
          <a:xfrm>
            <a:off x="1676520" y="24382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bluehat"/>
          <p:cNvPicPr/>
          <p:nvPr/>
        </p:nvPicPr>
        <p:blipFill>
          <a:blip r:embed="rId6"/>
          <a:stretch/>
        </p:blipFill>
        <p:spPr>
          <a:xfrm>
            <a:off x="1676520" y="342900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676160" y="91440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-вторых</a:t>
            </a:r>
            <a:r>
              <a:rPr b="1" lang="ru-RU" sz="3600" spc="-1" strike="noStrike">
                <a:solidFill>
                  <a:srgbClr val="713204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шляпу очень легко надеть и сн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этому</a:t>
            </a:r>
            <a:r>
              <a:rPr b="1" lang="ru-RU" sz="3600" spc="-1" strike="noStrike">
                <a:solidFill>
                  <a:srgbClr val="4b2203"/>
                </a:solidFill>
                <a:latin typeface="Arial"/>
              </a:rPr>
              <a:t> надевание «мыслеварительной» шляпы призвано помочь человеку обрести спокойное состояние, сосредоточиться на выполнении определённых мыслительных операц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04760" y="609120"/>
            <a:ext cx="6629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-третьих,</a:t>
            </a:r>
            <a:r>
              <a:rPr b="1" lang="ru-RU" sz="3200" spc="-1" strike="noStrike">
                <a:solidFill>
                  <a:srgbClr val="4b2203"/>
                </a:solidFill>
                <a:latin typeface="Arial"/>
              </a:rPr>
              <a:t> «Шляпы мышления» дают структуру для использования параллельного мышления и ухода от споров, отнимающих время без всякой пользы, помогают договориться с собеседником, прийти к соглас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сонова</dc:creator>
  <dc:description/>
  <dc:language>en-US</dc:language>
  <cp:lastModifiedBy>ирина</cp:lastModifiedBy>
  <dcterms:modified xsi:type="dcterms:W3CDTF">2012-11-05T16:49:07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