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8AA-0D8F-44F8-B7A9-31072CDF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1A4-63E4-4577-9FC6-1DA30536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F967F9-0263-43F3-827D-A8CC7E5E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D1AAA7-CA09-48C3-A16B-63BC61FE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CD2054-E0C4-4F8E-95B4-8BFF93C2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BCD58A-9930-4830-960E-12A05A0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97FCD1-3276-413E-A195-05DF662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F7599A-8A5E-4A72-8A36-31F014F5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49CA9B-76A8-4D93-A6BF-334F4F58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7C8EE-BDD0-42A7-BC95-85057AC7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0DD8F0-E552-4527-B29D-4AFC9AC6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9BC-4889-4D10-9717-F0368FFF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053-0A10-4D0B-BD9A-7DD82E70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C02C5-6CE6-49F5-B75B-B58746F7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41888-5D9C-464B-836D-2C208A0C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3322A-3B79-492B-B745-F1C84462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8A495-3EDF-46FC-A830-2A55EEF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B903A-B89B-45B5-8554-35989050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5576F-B435-4705-9EF7-3B08947A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FFF08-F914-4AEF-B35E-838AE1C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50B-2F32-4A09-9EED-D133E0B7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24C46-CFB2-4420-A742-7DFF526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B86A4-F22D-4228-A2F0-4475D4DA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A53CC-CB8F-41E8-90C9-0B878CAC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C4523-CDA7-48D2-8C66-FB09C134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4B9D4-956D-4D9D-8719-9E011DD9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57F4-68DD-4940-A96A-24C25DE9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F5A0-2F35-4B17-84B9-BAE95ED2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14A9-4CF3-41B8-AC05-561DF837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FC78-943D-4FD6-B44B-53716953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EAA4-CB9A-4EDD-BD23-A39B687E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453-EB0D-44D1-93A3-61306E9F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6130-5D37-47CE-A2EF-D23E60B7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8C23-1D8B-4DE3-BE35-D1977F28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F0E0-9045-4CC5-B41B-5121663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188F-C131-41E8-BDA7-3765096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4BB6-8C4A-4FE0-AC5C-A19B2D92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C4C6-2702-4044-8020-B1E73D45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B106-0764-4A72-8AE9-BD484EA9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C521C-46EB-4A3F-BC4A-AC9007A8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E158C-F984-42AC-B4D2-29CE7D8D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DFD7B-57E9-490D-B297-5C7E7495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549-11FB-48AF-90D1-EC53DB5A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B7C36-7585-41B7-A4D6-B4178D26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E30AB-1F5D-48C7-88B7-31A727F1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93AE2-2D4F-43E3-96F3-DF6A85D2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50487-9DF6-420F-909A-E6B07F5C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07A20-7BF8-4E62-BB1D-864E71B0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F6E80-F8F2-48F8-BDB1-80197E8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C5A2F-1E00-40E9-9961-0AF3117E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7D921-92A6-495D-8FF0-943A8929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C4D29-FB24-42F9-826B-286C39EF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86079-F763-4F37-A927-9DFC3885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564-A992-4FAE-889D-0EF426C5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4BFC1-3F77-4CA3-B48B-A3B791F2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83CE-D7E2-4C9A-954B-D439A6F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F8624-EDFA-4F72-9B54-05C38B84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13391-F6E3-4D46-A2E5-D83BF268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6EBB-8779-469F-8C1F-21A59295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D8AC3-1705-496D-A3D2-E203C88D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1B588-8C51-4F17-A862-428E4590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FDEF2-CD6C-44FC-82BE-91DBF14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856B-9ABA-4393-8AEB-4AD263E8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5611-4A0D-4BAC-BEE7-C3ED6125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657-542D-4427-A8E3-200B9B8C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55708-8551-46A9-81D7-85F30E65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CD93-6B97-4E62-A1C6-AA947222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62F11-CB8E-4A30-9895-7ABAAA27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20CBB-7365-462E-B6B9-C9B9669E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914FE-C593-4E16-AFA5-0F07D1FC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A246-C7D8-43D2-91FD-3A727E69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43D9-892A-402A-A0E3-0C388ABE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7876-5305-431D-85C1-0DBD8D93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CBAA3-1221-4134-A825-6F147789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C1547-C4AF-47B5-A2A2-39BC22FB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33F-B5DE-4AC6-85C3-FE624133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7D788-095E-4437-9C94-3B6A5F92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7366E-57F4-4870-8C2C-13688402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16A9-DF06-422D-B651-EE46ED2C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130D5-4481-450E-ADE1-406A3AEC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95C68-FB38-4F34-A914-8EE716C4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CFCE9-2996-45FD-9E01-65A6E5E5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36F02-C718-40B4-BDF5-D8A2A114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508E-08BA-4617-9D63-A3BA7055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D6DAE-B41F-4237-8DC2-4C3A210D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94D43-0C43-4A4E-AAE2-BBAB6C92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CB9-62DB-46FF-AC1E-EDCC374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02311-22D8-48B7-A228-A898F69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56E02-6D17-42D1-85C8-8DDC537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B777F-03FF-43A2-91B6-EFC3BA8F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CA6C0-688D-4777-A782-D9A98ED3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08681-BF7B-4F21-A12C-AEA32993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08431-93DE-4931-A4A8-4A0D8814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E01430-D793-49DD-8167-F7B0B851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18042A-A216-4440-9C36-F7030704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FF9396-372A-4491-AF23-2549BE4C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78849-248B-4F9F-8B21-7CC83336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435-47B1-4918-996B-BC218B8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3132D8-7A94-4EE1-915C-0EA1E10A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07F119-284C-45A7-876E-F87B0F7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1A9A88-7712-446D-9DF3-9111119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7CA01-76F2-4FBE-A7EE-A8540CF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8A2D90-C4E4-47CD-872A-D4A726A3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A67F1-806F-481A-B903-56A2C234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183679-68FD-4CC6-BA16-A754A49E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D1AD40-7269-480E-9E85-7B3B63D8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AA4BD-75A8-4388-B7CB-0FBCD6B2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954F22-33E5-4570-9953-1251562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4D6B-E482-4FCF-9287-F954E99DEF85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473-071C-4FFB-994F-73E80D300AA7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473D-1847-4BD2-AB9A-ED9A2EDAE1CB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AA97-E9CD-4C64-84D9-DB86DF04BA69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DAA1-CC6D-4F17-963E-E860C8EE2A7D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4F73-F392-4025-9AB0-A1089B489AF7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AFDB-064B-455A-91FB-F19E3D76834A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B26D-0E00-4004-886D-7EB35C9B9DEA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B7CB-230F-4052-97F8-3F43A5512915}" type="slidenum">
              <a:rPr b="0" lang="ru-RU" sz="1600" spc="-1" strike="noStrike">
                <a:solidFill>
                  <a:srgbClr val="e0d3ba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20840" y="195120"/>
            <a:ext cx="8547120" cy="28292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517680" y="-171360"/>
            <a:ext cx="8638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ru-RU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ru-RU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ru-RU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ru-RU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ru-RU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517680" y="0"/>
            <a:ext cx="86389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6374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6374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-115920"/>
            <a:ext cx="86374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USERZAV</cp:lastModifiedBy>
  <dcterms:modified xsi:type="dcterms:W3CDTF">2015-01-17T07:42:03Z</dcterms:modified>
  <cp:revision>21</cp:revision>
  <dc:subject/>
  <dc:title>Как анализировать свой собственный урок  (Самоанализ урока)</dc:title>
</cp:coreProperties>
</file>