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4307-F833-4D3B-9244-2C6B2475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97F-FF4F-40EB-8474-C4AB6DA3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C033D-3D0E-490F-B5CD-8ED0D3E3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DC630-41DF-4593-9E3F-0DE687A6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CA7EB-1D19-4EC0-803D-4475474A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66E15-45B9-4B5A-B422-528145E4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0A89F-C31D-462C-881E-9AB78AA9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FDDC4-4FC3-4946-8E5B-0E0AEDA2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80753-BF00-4EE0-94F4-695DDC75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E320C-F3F7-4C6F-BCC8-45464776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AACC5-B493-4AF5-A149-66E4D3A2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8024C-368E-4085-BF7F-9BA42CB9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20F-3E13-400C-AB6B-8B6AECC4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0C71B-2E4A-4E11-87C5-142BFC76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3C8FF-B302-4A65-BDCE-F8AB104A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DC8A9-44A4-42D0-8B5C-F24A7BB1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50067-F193-4D65-B4CF-F22A430A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86B51-4BEE-4AD2-9D3E-E1A3DFD2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3D7F1-BE18-42CC-BFFD-212B9376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BAB4E-7A50-4249-AA78-D79039C7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8152E-40B8-4DD5-8F02-D7211C6C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BFB56-86EA-468A-8342-F75EE788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82CCF-FB8A-47F4-B834-54529AA4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FF0F-CFF1-4233-A430-8B55F1E1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FB744-D2F5-46B5-971C-AE290F0E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D36B1-ABF4-40EF-A693-7693C82C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6870A-A267-4F48-9376-A5E1DCC7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97F0C-0B89-442B-AF5A-5740035E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A34CF-A026-4392-A517-9D431A15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E0184-0A5D-45B4-A242-F1FF7B51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B9511-8965-429A-8656-680463C8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EE9F1-E5BB-4D89-977A-5758F4DD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7620E-14A3-492F-AAAB-E59D69B6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B5C57-39F7-4038-AFA9-5D6AEDA7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A8B6-7D85-488A-ABF6-32BA42FD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8AD25-88AA-4F7D-8D02-D932AC2E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9EACA-FB33-45BC-AC22-D477362F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397E9-9D1A-497C-B609-C91B6E55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845B5-2B63-4349-9B54-85B03DF9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D691D-A69B-4DB8-A2B3-C899A59E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06139-1119-4AD3-B710-98B1B368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C7CA0-7FF6-408F-B514-EDDB20A9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35984-3B97-474B-BD31-6A328A32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10564-AC78-402B-9B96-18AE8B78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6D766-D68E-4A45-886F-6782779B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46BF-2A60-4DF6-9075-4181733A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7325F-335E-4ED5-90B7-F13688DD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6CA74-FF6E-4146-A50E-7D433A67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DF180-6B84-4127-98D9-665BF818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FAA6F-2286-4E3E-9A59-84128348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BDCC2-D77A-4F71-849A-211DE9AC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66CF-6611-4451-B135-25F2F150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1D10-15B5-4A03-824B-5F20823E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1867-CAFE-41C8-A186-428B2CEF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CFB7-B0C8-4D9A-B838-94276C07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629A-E769-4F17-83BA-3525DF72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9EC-C632-46AA-96F5-4CE772BA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5194-3FD8-4873-B220-BCC31167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160C-D919-4CB6-B752-762CA1E0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7F07-3977-4C9B-9020-AB154FBD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27A8-70E8-48DE-83B0-4BFA48C8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E587-66EE-4F00-A2A0-947BC590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523DD-F648-448E-9688-8C503305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0FF62-D4F9-4794-9BFA-F45FB8C4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06546-94FC-46F3-BFBF-D5DACE79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C6743-E648-48DB-B78C-3BCF47F0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4C8D4-8C40-4DA5-8EB9-30A03B78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51D-6C29-4E04-9550-DB391224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DC1CA-BAB5-499A-9F2E-7D740506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5A1EB-7D32-4FBA-AA83-2683710E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280BC-0A23-4B70-8C96-09DFACC4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B1DE1-3FB6-4E12-ADB8-D2605CCB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15B81-ED84-41BE-9AE9-AABD4C08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BB8EF-EEE8-4FCE-9BB5-2E3F16D2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3AAFC-71C0-47CF-AA68-48120D1A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B8755-A078-4A7D-AB7F-5080A32F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522F3-F2BA-449D-8B48-BADA4A96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1B36E-C9D2-4812-9D7E-6C5F48DF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0178-24BC-48D3-A547-D301F75D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D3BC0-8ADF-4411-BF3A-D62925FB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DB8E2-96AF-44AB-86C0-5C36C969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EC286-C164-43BB-AB11-C01AE7EE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4A98C-0035-473B-8EDD-A792D62D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00BD0-24B0-4141-ADD0-A181699A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44241-F638-4045-B902-08312910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9646B-08D0-4AFF-86FD-5E1B1EB8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F274B-3351-4256-9DA9-F109BB99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C632F-3759-4C0C-B095-C2513A8E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91B98-E096-4752-8A81-2BC85ABE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675-E344-4EFC-98E6-85B4F307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61F12-5BEC-4329-B962-28F918A3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AD5E3-EEBE-430D-B17B-063E1BFB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139E3-0E17-41E5-A9BC-EEF563D2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3BD58-A0AD-42FB-8009-39FE966B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59DAE-E447-4ECF-A56C-2D278316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FB30F-8148-4AA0-A966-21B48D15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78AEF-D5C1-4F1C-BAA8-98B1249C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AECA4-9D35-466E-9AC0-ED43FB43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9C1D6-CD1E-4F2B-8C32-A726BF24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4C642-F8E8-4903-8596-E1676623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CBA-A553-4997-8FE7-87F4322B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F0655-32F1-4758-9B06-EE19F7E7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D8DF9-A89E-409F-928B-7697AAEB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C8689-4919-4473-AF87-09E75BB8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8A970-61DD-459F-B617-56EDCB47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24970-2072-4DA4-A6AB-BD055542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8E8E3-F5B3-4C15-8DEF-D43A1D91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D04D8-860C-4FEF-8899-8B595A95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86889-C212-4566-ACD3-ADFD9725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CA486-113C-4992-B5CC-FF1998F9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F40CA-DA62-4156-9BD9-092E0406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C545-C477-4A35-8396-D85CB74D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80DCB-6E1A-4A8E-8E85-66C1F5CF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02A52-1FFF-4058-8CFF-9D7E0E48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287EF-566B-4D7F-B2E1-1CC598A7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83785-2D34-42C2-8635-C796C5C1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8BF1E-FFFC-49D8-862B-0281668D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8FB92-4170-4C55-A880-0BF38AB5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D2749-D02F-4F6D-AE98-EDB7AD65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A36DA-4BEF-420A-A6CA-ADDD2F90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DFBF8-F46B-40ED-8BF9-E3769F42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59631-DA98-4797-9F69-651AB18C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F65-F06F-4C66-AE78-BBF25275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3C53E-59E6-4220-BEE8-2E17B301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F8578-3FA1-455A-9780-B5E82DD2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79405-035D-4F4D-AB4C-DFF867FA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5D92D-0488-4B74-AA19-97EF87A5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37448-6C2A-497F-9AE5-1AEE6775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DA38F-3BB5-4F54-8F5C-24E3BAAD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E480F-DC21-4A4B-BAEC-E3BED1E2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909B1-66D0-4AB2-A616-3696A1FD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52559-1E0E-49AF-9F3D-22B471AE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E965A-3B06-46F5-9BF8-DCFF3A8B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000-E2BD-4FB7-A764-9F7A1340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1781D-D103-47F3-AC84-4A3CF68C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38D4D-26F8-4E4F-B987-D4691707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56F95-723B-4272-92C3-08B9304F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3B9CB-1634-4454-8B31-16EA4A5D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34727-7010-4ED6-A475-F3E7D39C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75117-0AD1-4274-8991-F5B5A08F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051EB-C3AF-48A0-B11C-1EFBE169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28FD0-697C-483B-A752-37551816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88312-6DCF-458D-9BE4-E9FB523F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3DDFC-CBA1-440A-90C8-933A149D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CDA2-89CE-451A-8A4B-F5D89E8F44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02CE-5B88-4C73-A0CE-67C624DFE7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D2AC-EB28-47B2-A8A3-25937EC134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735C-6BDE-4799-A475-DD12DF5DE5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B30D-9A9D-489B-9684-A432D02512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DB08-9BF7-46E5-BCDC-3E1AC67B13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D243-1AC8-4CF1-B58C-8B63CE7248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755E-8014-41AB-9640-9F04D56F48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9302-D589-4AF1-8BFE-D061721350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9C87-2DDD-42E8-B964-C6E4422304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D43C-70AB-4EE4-A6CE-585AB6FA12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8F42-0B7C-4EC2-81A3-1A7B9EAA6A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6049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Профессиональный стандарт педаг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5651280" y="4741920"/>
            <a:ext cx="24476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187200" y="1052280"/>
            <a:ext cx="8948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Эффективно управлять классами, с целью вовлечения учеников в процесс обучения и воспитания, мотивируя их учебно-познавательн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Устанавливать четкие правила поведения в классе в соответствии с уставом и правилами поведения в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Оказывать всестороннюю помощь и поддержку в организации ученических органов самоупр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Уметь общаться с детьми, признавая их достоинство, понимая и принимая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179280" y="1125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Уметь строить воспитательную деятельность с учетом культурных различий детей, половозрастных и индивидуальных особен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Уметь поддерживать конструктивные воспитательные усилия родителей (лиц, их заменяющих) учащихся, привлекать семью к решению вопросов воспитан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. Уметь защищать достоинство и интересы учащихся, помогать детям, оказавшимся в конфликтной ситуации и/или неблагоприятных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асть третья: 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79280" y="1125000"/>
            <a:ext cx="8856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Готовность принять разных детей, вне зависимости от их реальных учебных возможностей, особенностей в поведении, состояния психического и физического здоровья. Профессиональная установка на оказание помощи любому ребе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пособность в ходе наблюдения выявлять разнообразные проблемы детей, связанные с особенностями их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пособность оказать адресную помощь ребенку своими педагогическими прие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250560" y="765000"/>
            <a:ext cx="8785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Готовность к взаимодействию с другими специалистами в рамках психолого-медико-педагогического консилиу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Умение читать документацию специалистов (психологов, дефектологов, логопедов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Умение составлять совместно с другими специалистами программу индивидуального развит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Владение специальными методиками, позволяющими проводить коррекционно-развивающую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Умение отслеживать динамику развит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Умение защитить тех, кого в детском коллективе не приним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Знание общих закономерностей развития личности и проявления личностных свойств, психологических законов периодизации и кризисов развития, возрастных особенностей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. Умение использовать в практике своей работы психологические подходы: культурно-исторический, деятельностный и развиваю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. Умение проектировать психологически безопасную и комфортную образовательную среду, знать и уметь проводить профилактику различных форм насилия в О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. Владение элементарными приемами психодиагностики личностных характеристик и возрастных особенностей учащихся, осуществление совместно с психологом мониторинга личностных характеристик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. Умение (совместно с психологом и другими специалистами) составить психолого-педагогическую характеристику (портрет) личности учащего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. Умение разрабатывать и реализовывать индивидуальные программы развития с учетом личностных и возрастных особенностей учащих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6. Умение формировать и развивать универсальные учебные действия, образцы и ценности социального поведения, навыки поведения в мире виртуальной реальности и социальных сетях, навыки поликультурного общения и толерантность, ключевые компетенции (по международным нормам) и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7. Владение психолого-педагогическими технологиями (в том числе инклюзивными), необходимыми для работы с различными учащимися: одаренные дети, социально уязвимые дети, попавшие в трудные жизненные ситуации, дети-мигранты, дети-сироты, дети с особыми образовательными потребностями (аутисты, СДВГ и др.), дети с ОВЗ, дети с девиациями поведения, дети с зависимость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684360" y="1267920"/>
            <a:ext cx="82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. Умение формировать детско-взрослые сообщества, знание их социально-психологических особенностей и закономерностей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. Знание основных закономерностей семейных отношений, позволяющих эффективно работать с родительской обществен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сихолого-педагогические требова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 квалификации учител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усвоить ряд фундаментальных понятий из психологии личности, возрастной и педагогической психологии, определяющих результаты образовательного процесса, степень развития метапредметных компетенций, уровень и показатели социализации личности, ее развития, в том числе следующ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жданская и социальная идентич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ажение прав и свобод л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ценностей л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цы и нормы просоциального поведения, в том числе в виртуальной и поликультурной ср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ели стадий и параметры кризисов возрастного и личностного разви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коммуникативной компетентности обучающих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системы регуляции поведения и деятельности обучающих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и становление учебной мотивации и системы универсальных учебных действ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и освоения и смены видов ведуще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детско-взрослых сообще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овление картины ми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нцепция и 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ремительно меняющемся открытом мире главным профессиональным качеством, которое педагог должен постоянно демонстрировать своим ученикам, становится умение уч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дение нового профессионального стандарта педагога должно неизбежно повлечь за собой изменение стандартов его подготовки и переподготовки в высшей школе и в центрах повышения квалиф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ый стандарт повышает ответственность педагога за результаты свое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оценки выполнени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бований профессиональног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ндарта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овая оценка профессиональной деятельности педагога производится по результатам обучения, воспитания и развития учащихся. Производя такую комплексную оценку, необходимо учитывать уровни образования, склонности и способности детей, особенности их развития и реальные учебные возмо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179280" y="836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, в оценке работы педагога с сохранными, способными учащимися в качестве критериев могут рассматриваться высокие учебные достижения и победы в олимпиадах разного уров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отношению к учащимся, имеющим особенности и ограниченные возможности, в качестве критериев успешной работы педагогами совместно с психологами могут рассматриваться интегративные показатели, свидетельствующие о положительной динамике развития ребенка. (Был – стал.) Или, в особо сложных случаях (например, ребенок с синдром Дауна), о сохранении его психоэмоционального статус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323640" y="98064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ивая профессиональные качества педагога, необходимо обеспечить обратную связь с потребителями его деятельности. В качестве таких потребителей выступают сами учащиеся и их родители. Отсюда следует, что оценка деятельности педагога выходит за узкие ведомственные рамки и требует закрепления организационных форм и соответствующего им порядка проведения, обеспечивающего общественное участие в этой процеду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250560" y="1196640"/>
            <a:ext cx="8713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ка соответствия требованиям, предъявляемым к педагогу, может быть проведена посредством внутреннего аудита, включающего анализ планов и отчетов, посещение проводимых им уроков, или в иной форме. Сбор данных для оценивания может быть осуществлен посредством результативного опроса, выслушивания, наблюдений и анализа документов, записей и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23640" y="105264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нутренние аудиторы образовательного учреждения должны назначаться из числа наиболее уважаемых и авторитетных педагогов  данного учреждения и быть обучены принципам, процедурам и методам проведения аудитов. Объем и частота проведения внутреннего аудита в отношении конкретного педагога устанавливаются самой образовательной организацией, исходя из ее политики в области повышения качества образовательных услу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зультаты внутренних аудитов должны учитываться при проведении государственной аттестации педагога и присвоении ему соответствующей категор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ключительные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79280" y="1125000"/>
            <a:ext cx="8856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профессионального стандарта педагога предоставляет регионам РФ и образовательным организациям дополнительные степени свободы, вместе с тем накладывая на них серьезную ответств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ональные органы управления образованием совместно с профессиональным сообществом могут разработать дополнения к нему. В свою очередь, образовательные организации имеют возможность сформулировать свои внутренние стандарты, на основе которых нужно будет разработать и принять локальные нормативные акты, закрепляющие требования к квалификации педагогов, соответствующие задачам данной образовательной организации и специфике ее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чем нужен профессиональны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ндарт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– инструмент реализации стратегии образования в меняющемся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– инструмент повышения качества образования и выхода отечественного образования на международный уров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– объективный измеритель квалификации педаг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– средство отбора педагогических кадров в учреждения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– основа для формирования трудового договора, фиксирующего отношения между работником и работода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бходимость наполнени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ессионального стандарта учител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выми компетенци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одаренными учащими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в условиях реализации программ инклюзивно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одавание русского языка учащимся, для которых он не является род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учащимися, имеющими проблемы в разви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девиантными, зависимыми, социально запущенными и социально уязвимыми учащимися, имеющими серьезные отклонения в повед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10920" y="115920"/>
            <a:ext cx="80866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истика станда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ессиональный стандарт педагога – рамочный документ, в котором определя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бования к его квалиф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национальная рамка стандарта может быть дополнена региональными требованиями, внутренним стандартом образовательного учреждения, в соответствии со спецификой реализуемых в данном учреждении образовательных про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бласть приме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иеме на работу в образовательное учреж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ведении аттестации педагогов образовательных учреждений региональными органами исполнительной власти, осуществляющими управление в сфере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ведении аттестации педагогов самими образовательными организациями, в случае предоставления им соответствующих полномоч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 профессионального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ндарта педагог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первая: об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79280" y="1916280"/>
            <a:ext cx="8856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дагог долже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ть высшее образ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нстрировать знание предмета и программы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ть планировать, проводить уроки, анализировать их эффективность (самоанализ уро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ть формами и методами обучения, выходящими за рамки уроков: лабораторные эксперименты, полевая практика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95280" y="1268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Использовать специальные подходы к обучению, для того чтобы включить в образовательный процесс всех учеников: со специальными потребностями в образовании; одаренных учеников; учеников, для которых русский язык не является родным; учеников с ограниченными возможностям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Уметь объективно оценивать знания учеников, используя разные формы и методы контр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Владеть ИКТ-компетенц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8137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асть вторая: воспита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79280" y="1125360"/>
            <a:ext cx="8785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дагог долже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Владеть формами и методами воспитательной работы, используя их как на уроке, так и во внекласс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ладеть методами организации экскурсий, походов и экспе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ладеть методами музейной педагогики, используя их для расширения кругозора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Эффективно регулировать поведение учащихся для обеспечения безопасной образовательно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17:01:59Z</dcterms:created>
  <dc:creator>НВ</dc:creator>
  <dc:description/>
  <dc:language>en-US</dc:language>
  <cp:lastModifiedBy>USERZAV</cp:lastModifiedBy>
  <dcterms:modified xsi:type="dcterms:W3CDTF">2015-11-23T12:27:52Z</dcterms:modified>
  <cp:revision>16</cp:revision>
  <dc:subject/>
  <dc:title>Профессиональный стандарт педагога</dc:title>
</cp:coreProperties>
</file>