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DA757-2F9B-4DA0-824A-9D234247980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A493A-014D-4DA6-882C-4FDE05CA62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сылки на странице – переход к терминам. Возвращение к слайду – нажать на кнопку со стрелк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4780F-0993-428D-B8D5-7BF9BA09D8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УДИТ (лат. audit - он слышит, англ. audit - проверка, ревизия) – анализ  деятельности в данном случае педагога, проверка соответствия деятельности определенным установленным правилам, нормам проводимая квалифицированными специалист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4C3A2-D7B0-4A85-A85E-C1A51FEF87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67C67-D6AD-423F-A943-EDA452A041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этого вступительное слово из введения в Про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8A878-DB10-438A-BD4E-84FECE7337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этого вступительное слово из введения в Про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2B3B0-3BB8-4A64-AEBB-779B5ACA0A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деральный закон № 273-ФЗ от 29.12.2012 «Об образовании в Российской Федерации» (далее – ФЗ) относит дошкольное образование к одному из уровней общего. Кроме того, в ФЗ, наряду с такой функцией, как уход и присмотр за ребенком, за дошкольными организациями закрепляется обязанность осуществлять образовательную деятельность, выделяемую в отдельную услугу. В соответствии с законом, сегодня любая школа вправе реализовывать программы дошкольного образования. Отсюда возникает необходимость единого подхода к профессиональным компетенциям педагога дошкольного образования и учител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?? Есть требования к педагогу дошкольного образования, начальной школы, а основной и старшей – есть ли необходимос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E7BE-198A-4D17-8B15-F1F14E996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DD78-4E5D-473A-AECA-A76B46233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6C70-5C12-4FA2-805A-341A412D0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C017-2CFA-42B9-A9CA-4CADBE2C6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5C3DD-1280-48F7-BD5C-C1C35AB27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45009-938A-4B99-8D61-81C6B94E6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E0AE2-9D9A-4911-AE85-E530CAD72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E68C1-B6C4-4263-810C-AAB67E1FB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47818-EBAA-4E81-92E3-F57FF1543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CB533-FC4A-4CC6-972B-6CF97704D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82A91-5F9A-411D-9AC1-6858AB0C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BFC1-0B32-4FCC-8F0B-3127A35C8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EFEDC-2412-44C1-952A-2E04EC26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423BB-ABC9-4D2F-A00E-6BDD16A8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C500A-EFAD-4A4A-BC47-F1C180077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76463-75D2-4260-BF24-A99186FA2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79774-9844-4679-9E3C-9E5154A54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07EE2-40FA-4896-88D3-6531A7DC4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DB013-D480-45A8-BDA4-704552AD8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7C0F1-FDB0-4664-AA7F-52BDE60E7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228DE-DBE2-4394-907A-0903E0AE7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8454D-7548-4B5C-A202-26BCBD66A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7244-079B-4DD8-A26D-F76BEBD59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48F62-9661-412B-9587-57CE79165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2702C-F6F6-437F-A3AA-65ECDB1C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AE09B-54A7-4C13-8734-6A6610C0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70338-2B0D-40CD-B71B-CB749F69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00FEC-2C50-44D3-BC20-3C760335A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79E46-3167-4756-B6DE-FB3823F38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546A9-05B2-442B-ADD6-661CB3050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1BE66-26BB-4673-8A9C-D6E9D08D4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D893D-5536-4423-BCF9-A77CA0CEC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327FA-02DD-481B-B3DA-F555A107D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1BC9-ABA3-4D75-BA55-1A1CAA0E2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90036-1A04-4D02-9808-0D10A862B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BF59B-30C7-4A3E-9AFF-4EE893FB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6869F-A7C5-414B-A361-70DE6D095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CDD05-B192-4488-822C-D6149025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0F02E-F544-4D45-8EB8-7550B358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98227-B2AC-4AEB-A7AB-751A82A0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3AD20-7752-4329-977A-B769D877F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698FF-83C3-481F-9597-6BF9720ED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C5282-FC51-45F5-882D-603EB5823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08EE5-5841-455E-8A3B-C2231CE7E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BC8F-E3A7-463A-8B79-3F16C9E93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26374-1FE9-41AF-82AE-ED038B62A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35B44-E0AF-4118-8321-4B75BF53A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624A5-682A-4875-9EDB-598B8F5CC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FBB73-593B-4348-B41C-C12EA9936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172F2-3798-4E88-8A29-35C4A25DA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09406-75A3-4AA9-BB46-A9FDAA5D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31601-3D82-4148-A95C-9AA8D6C0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BEE9A-0692-4B59-9BBD-06E30F96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0CB56-94C7-474F-8BF2-81BEDE82D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08C97-6684-4E3C-B3D2-FA9C2ADF6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395B-FB0E-4E3F-B47B-EFF1F836F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47221-0452-4FA6-A11B-CAC1AD486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F82A96-0E19-4189-827A-37488DDAE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44A2C-BF9C-4642-9B51-36302108D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D0405-EE35-4AEE-843D-B2F6B1B12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9B719-1FEB-4816-ABBC-C9563302A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3F185D-7991-43F0-888F-D3477381C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B7522-F4F3-4A3C-BA5F-9BD1E4EF7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4FD66-3F1E-454C-BA48-BEE3C790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75DE4-DA0C-40E6-8FF8-91312559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E499D8-DD6F-44F3-A09C-F551738F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BFB3-6EB1-49DE-974B-AB39361B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8E4AE-4D23-40C9-8F73-EED444397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EC5FC-0F65-41C0-8351-7C885A33F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D09D1-6BCE-4B08-9264-7F051879A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C5B0E-A46F-4746-A800-545D1F01A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0A4D8-1798-4DB7-B902-7991BC8B2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F18C72-1D7F-490A-BF15-BE5BDAEF8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79A5B8-DB35-44D1-9094-021F8EBF6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18FFB-D6F3-49B4-B56E-60FDC4019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9DE3F5-3C56-4A3C-8314-BDA29C33A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9CFC8-D5FB-40F8-AF08-DCB661F2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C55B-CCBD-4E68-86BA-A5917B22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319F0-DED4-4828-B02D-3183E26C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7B215-A76C-44C1-A8D6-5B9E98B5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4DBD3-E1E0-44FE-B1DC-93EA30EEB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6FE00-C646-47F7-88A9-E90B11308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8EED7B-8147-4A2A-8FB4-78CE94413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4B92-0A93-4320-8F88-A52B3865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8A658-6D5C-4039-975D-5EADF9E311B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6FDA4-3410-481D-9E07-4761924B35D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BAE44-BD96-42F2-8EEA-C3260F45D4C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521C9-9AD1-4B42-82BC-D8BFD0877D3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19AB4-4F35-4170-B951-A1F6BD3F265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BC5F6-DFB8-4A4D-AF51-29CF904FA52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07E53-A6F4-4928-9599-A49B9821E08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slide" Target="slide36.xml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35.xml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" Target="slide37.xml"/><Relationship Id="rId3" Type="http://schemas.openxmlformats.org/officeDocument/2006/relationships/slide" Target="slide35.xml"/><Relationship Id="rId4" Type="http://schemas.openxmlformats.org/officeDocument/2006/relationships/slide" Target="slide38.xml"/><Relationship Id="rId5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39.xml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дсовет</a:t>
            </a:r>
            <a:r>
              <a:rPr b="1" i="1" lang="ru-RU" sz="43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</a:t>
            </a:r>
            <a:br>
              <a:rPr sz="4300"/>
            </a:br>
            <a:r>
              <a:rPr b="1" i="1" lang="ru-RU" sz="43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«</a:t>
            </a:r>
            <a:r>
              <a:rPr b="1" lang="ru-RU" sz="43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рофессиональный  стандарт педагога»</a:t>
            </a:r>
            <a:br>
              <a:rPr sz="4300"/>
            </a:b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395280" y="1687680"/>
            <a:ext cx="8748720" cy="49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7120" indent="-35712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ый стандарт педагога отражает </a:t>
            </a:r>
            <a:r>
              <a:rPr b="0" lang="ru-RU" sz="24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структуру его профессиональной деятель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обучение, воспитание и развитие ребенка. В соответствии со стратегией современного образования в меняющемся мире, он существенно наполняется психолого-педагогическими компетенциями, призванными помочь учителю в решении новых стоящих перед ним пробл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 выдвигает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личностным качествам учител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еотделимым от его </a:t>
            </a:r>
            <a:r>
              <a:rPr b="0" lang="ru-RU" sz="24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профессиональных компетенц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аких как: готовность учить всех без исключения детей, вне зависимости от их склонностей, способностей, особенностей развития, ограниченных возмож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0" y="836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арактеристика стандар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2"/>
          <p:cNvSpPr/>
          <p:nvPr/>
        </p:nvSpPr>
        <p:spPr>
          <a:xfrm>
            <a:off x="1258920" y="2061360"/>
            <a:ext cx="756108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7120" indent="-35712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ть координированный рост свободы и ответственности педагога за результаты своего тру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ировать педагога на постоянное повышение квалифик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3"/>
          <p:cNvSpPr/>
          <p:nvPr/>
        </p:nvSpPr>
        <p:spPr>
          <a:xfrm>
            <a:off x="0" y="476280"/>
            <a:ext cx="91440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фессиональный стандарт педагога выполняет функции, призванны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AutoShape 20"/>
          <p:cNvSpPr/>
          <p:nvPr/>
        </p:nvSpPr>
        <p:spPr>
          <a:xfrm>
            <a:off x="1116000" y="1484280"/>
            <a:ext cx="7201080" cy="1514520"/>
          </a:xfrm>
          <a:prstGeom prst="roundRect">
            <a:avLst>
              <a:gd name="adj" fmla="val 34972"/>
            </a:avLst>
          </a:prstGeom>
          <a:solidFill>
            <a:srgbClr val="ccffcc">
              <a:alpha val="14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3"/>
          <p:cNvSpPr/>
          <p:nvPr/>
        </p:nvSpPr>
        <p:spPr>
          <a:xfrm>
            <a:off x="2195640" y="549360"/>
            <a:ext cx="612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Verdana"/>
              </a:rPr>
              <a:t>Область приме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3944880" y="1484280"/>
            <a:ext cx="11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ф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1168920" y="1989000"/>
            <a:ext cx="2215440" cy="459720"/>
          </a:xfrm>
          <a:prstGeom prst="rect">
            <a:avLst/>
          </a:prstGeom>
          <a:solidFill>
            <a:srgbClr val="ffcc99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школь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6"/>
          <p:cNvSpPr/>
          <p:nvPr/>
        </p:nvSpPr>
        <p:spPr>
          <a:xfrm>
            <a:off x="3417840" y="1989000"/>
            <a:ext cx="1956240" cy="459720"/>
          </a:xfrm>
          <a:prstGeom prst="rect">
            <a:avLst/>
          </a:prstGeom>
          <a:solidFill>
            <a:srgbClr val="ccffcc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чаль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7"/>
          <p:cNvSpPr/>
          <p:nvPr/>
        </p:nvSpPr>
        <p:spPr>
          <a:xfrm>
            <a:off x="5443560" y="1989000"/>
            <a:ext cx="2757960" cy="4597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щего средн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8"/>
          <p:cNvSpPr/>
          <p:nvPr/>
        </p:nvSpPr>
        <p:spPr>
          <a:xfrm>
            <a:off x="3425760" y="249228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9"/>
          <p:cNvSpPr/>
          <p:nvPr/>
        </p:nvSpPr>
        <p:spPr>
          <a:xfrm>
            <a:off x="0" y="32148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фессиональный стандарт педагога может применять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16"/>
          <p:cNvSpPr/>
          <p:nvPr/>
        </p:nvSpPr>
        <p:spPr>
          <a:xfrm>
            <a:off x="324000" y="3863880"/>
            <a:ext cx="2735280" cy="251928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</a:rPr>
              <a:t>при приеме на работу</a:t>
            </a:r>
            <a:r>
              <a:rPr b="0" lang="ru-RU" sz="2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общеобразова-тельное учрежде-ние на должность «педагог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17"/>
          <p:cNvSpPr/>
          <p:nvPr/>
        </p:nvSpPr>
        <p:spPr>
          <a:xfrm>
            <a:off x="6227640" y="4365720"/>
            <a:ext cx="2664000" cy="201600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самими образова-тельными орга-низациям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в случае предостав-ления им соот-ветствующих пол-номоч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18"/>
          <p:cNvSpPr/>
          <p:nvPr/>
        </p:nvSpPr>
        <p:spPr>
          <a:xfrm>
            <a:off x="3276720" y="4365720"/>
            <a:ext cx="2663640" cy="201600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региональными органам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спол-нительной власти, осуществляющи-ми управление в сфере образова-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19"/>
          <p:cNvSpPr/>
          <p:nvPr/>
        </p:nvSpPr>
        <p:spPr>
          <a:xfrm>
            <a:off x="395280" y="307188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21"/>
          <p:cNvSpPr/>
          <p:nvPr/>
        </p:nvSpPr>
        <p:spPr>
          <a:xfrm>
            <a:off x="3276720" y="4005360"/>
            <a:ext cx="5616360" cy="360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</a:rPr>
              <a:t>при проведении аттестации педагог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0" y="836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 приме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2"/>
          <p:cNvSpPr/>
          <p:nvPr/>
        </p:nvSpPr>
        <p:spPr>
          <a:xfrm>
            <a:off x="826920" y="1509840"/>
            <a:ext cx="7975800" cy="54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ть </a:t>
            </a:r>
            <a:r>
              <a:rPr b="0" lang="ru-RU" sz="28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необходимую квалификацию</a:t>
            </a:r>
            <a:r>
              <a:rPr b="0" lang="ru-RU" sz="28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а, которая влияет на результаты обучения, воспитания и развития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ть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ую подготовк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дагога для получения высоких результатов его тру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ть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ую осведомлен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дагога о предъявляемых к нему требован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йствовать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влечению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ов в решение задачи повышения качества образ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2"/>
          <p:cNvSpPr/>
          <p:nvPr/>
        </p:nvSpPr>
        <p:spPr>
          <a:xfrm>
            <a:off x="1332000" y="260280"/>
            <a:ext cx="734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держание профессиональн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андарта педаго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Прямоугольник 1"/>
          <p:cNvSpPr/>
          <p:nvPr/>
        </p:nvSpPr>
        <p:spPr>
          <a:xfrm>
            <a:off x="1042920" y="1430280"/>
            <a:ext cx="820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на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педагога (личностные качества и профессиональные компетенции, необходимые педагогу для осуществления развивающей деятельнос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ые компетенции педагога,  отражающие специфику работы начальной шк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ые требования к учителям – предметникам (Приложение 3: математика и информатика, русский язы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оценки выполнения требований профессионального стандарта Уч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е 1. ИКТ - компетен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е 2. Психолого-педагогические требования к квалификации уч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4"/>
          <p:cNvSpPr/>
          <p:nvPr/>
        </p:nvSpPr>
        <p:spPr>
          <a:xfrm>
            <a:off x="369720" y="548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35e01"/>
                </a:solidFill>
                <a:latin typeface="Times New Roman"/>
                <a:ea typeface="Times New Roman"/>
              </a:rPr>
              <a:t>Термины и определения применительно к педагогу</a:t>
            </a:r>
            <a:r>
              <a:rPr b="0" lang="ru-RU" sz="2400" spc="-1" strike="noStrike">
                <a:solidFill>
                  <a:srgbClr val="835e01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Прямоугольник 1"/>
          <p:cNvSpPr/>
          <p:nvPr/>
        </p:nvSpPr>
        <p:spPr>
          <a:xfrm>
            <a:off x="1187280" y="1197000"/>
            <a:ext cx="78487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835e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5e01"/>
                </a:solidFill>
                <a:latin typeface="Times New Roman"/>
                <a:ea typeface="Times New Roman"/>
              </a:rPr>
              <a:t>Квалификация педагог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отражает уровень профессиональной подготовки учителя и его готовность к труду в сфере образов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835e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5e01"/>
                </a:solidFill>
                <a:latin typeface="Times New Roman"/>
                <a:ea typeface="Times New Roman"/>
              </a:rPr>
              <a:t>Профессиональная компетенци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пособность успешно действовать на основе практического опыта, умения и знаний при решении профессиональных задач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835e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5e01"/>
                </a:solidFill>
                <a:latin typeface="Times New Roman"/>
                <a:ea typeface="Times New Roman"/>
              </a:rPr>
              <a:t>Региональное дополнение к профессиональному стандарту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окумент, включающий дополнительные требования к квалификации педагога, позволяющие ему выполнять свои обязанности в реальном социокультурном контекст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835e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5e01"/>
                </a:solidFill>
                <a:latin typeface="Times New Roman"/>
                <a:ea typeface="Times New Roman"/>
              </a:rPr>
              <a:t>Инклюзивное или включенное образование</a:t>
            </a:r>
            <a:r>
              <a:rPr b="0" lang="ru-RU" sz="2000" spc="-1" strike="noStrike">
                <a:solidFill>
                  <a:srgbClr val="835e01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термин, используемый для описания процесса обучения детей с особыми потребностями в общеобразовательных (массовых) школ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2"/>
          <p:cNvSpPr/>
          <p:nvPr/>
        </p:nvSpPr>
        <p:spPr>
          <a:xfrm>
            <a:off x="684360" y="-438120"/>
            <a:ext cx="831672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3">
            <a:hlinkClick r:id="" action="ppaction://hlinkshowjump?jump=previousslide"/>
          </p:cNvPr>
          <p:cNvSpPr/>
          <p:nvPr/>
        </p:nvSpPr>
        <p:spPr>
          <a:xfrm>
            <a:off x="8101080" y="6237360"/>
            <a:ext cx="1042920" cy="620640"/>
          </a:xfrm>
          <a:custGeom>
            <a:avLst/>
            <a:gdLst>
              <a:gd name="textAreaLeft" fmla="*/ 39960 w 1042920"/>
              <a:gd name="textAreaRight" fmla="*/ 1002960 w 10429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6288" h="21600">
                <a:moveTo>
                  <a:pt x="0" y="0"/>
                </a:moveTo>
                <a:lnTo>
                  <a:pt x="36288" y="0"/>
                </a:lnTo>
                <a:lnTo>
                  <a:pt x="36288" y="21600"/>
                </a:lnTo>
                <a:lnTo>
                  <a:pt x="0" y="21600"/>
                </a:lnTo>
                <a:close/>
              </a:path>
              <a:path fill="lightenLess" w="36288" h="21600">
                <a:moveTo>
                  <a:pt x="0" y="0"/>
                </a:moveTo>
                <a:lnTo>
                  <a:pt x="36288" y="0"/>
                </a:lnTo>
                <a:lnTo>
                  <a:pt x="34888" y="1400"/>
                </a:lnTo>
                <a:lnTo>
                  <a:pt x="1400" y="1400"/>
                </a:lnTo>
                <a:close/>
              </a:path>
              <a:path fill="darken" w="36288" h="21600">
                <a:moveTo>
                  <a:pt x="36288" y="0"/>
                </a:moveTo>
                <a:lnTo>
                  <a:pt x="36288" y="21600"/>
                </a:lnTo>
                <a:lnTo>
                  <a:pt x="34888" y="20200"/>
                </a:lnTo>
                <a:lnTo>
                  <a:pt x="34888" y="1400"/>
                </a:lnTo>
                <a:close/>
              </a:path>
              <a:path fill="darkenLess" w="36288" h="21600">
                <a:moveTo>
                  <a:pt x="36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888" y="20200"/>
                </a:lnTo>
                <a:close/>
              </a:path>
              <a:path fill="lighten" w="36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288" h="21600">
                <a:moveTo>
                  <a:pt x="14645" y="10800"/>
                </a:moveTo>
                <a:lnTo>
                  <a:pt x="25150" y="3794"/>
                </a:lnTo>
                <a:lnTo>
                  <a:pt x="25150" y="17806"/>
                </a:lnTo>
                <a:close/>
              </a:path>
              <a:path fill="darken" w="36288" h="21600">
                <a:moveTo>
                  <a:pt x="11138" y="3794"/>
                </a:moveTo>
                <a:lnTo>
                  <a:pt x="12800" y="3794"/>
                </a:lnTo>
                <a:lnTo>
                  <a:pt x="12800" y="17806"/>
                </a:lnTo>
                <a:lnTo>
                  <a:pt x="11138" y="17806"/>
                </a:lnTo>
                <a:close/>
              </a:path>
            </a:pathLst>
          </a:cu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оугольник 1"/>
          <p:cNvSpPr/>
          <p:nvPr/>
        </p:nvSpPr>
        <p:spPr>
          <a:xfrm>
            <a:off x="1187280" y="890640"/>
            <a:ext cx="7705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835e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35e01"/>
                </a:solidFill>
                <a:latin typeface="Times New Roman"/>
                <a:ea typeface="Times New Roman"/>
              </a:rPr>
              <a:t>Внутренний стандарт образовательной организаци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окумент, определяющий квалификационные требования к педагогу, соответствующий реализуемым в данной организации образовательным программ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835e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35e01"/>
                </a:solidFill>
                <a:latin typeface="Times New Roman"/>
                <a:ea typeface="Times New Roman"/>
              </a:rPr>
              <a:t>Ключевые области стандарта педагог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разделы стандарта, соответствующие структуре профессиональной деятельности педагога: обучение, воспитание и развитие ребен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835e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35e01"/>
                </a:solidFill>
                <a:latin typeface="Times New Roman"/>
                <a:ea typeface="Times New Roman"/>
              </a:rPr>
              <a:t>Профессиональная ИКТ-компетентность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валифицированное использование общераспространенных в данной профессиональной области в развитых странах средств ИКТ при решении профессиональных задач там, где это необходим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1187280" y="261000"/>
            <a:ext cx="795672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35e01"/>
                </a:solidFill>
                <a:latin typeface="Times New Roman"/>
                <a:ea typeface="Times New Roman"/>
              </a:rPr>
              <a:t>Ауди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истематический, независимый и документируемый процесс получения свидетельств аудита и их объективного оценивания в целях установления степени выполнения требов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3">
            <a:hlinkClick r:id="" action="ppaction://hlinkshowjump?jump=previousslide"/>
          </p:cNvPr>
          <p:cNvSpPr/>
          <p:nvPr/>
        </p:nvSpPr>
        <p:spPr>
          <a:xfrm>
            <a:off x="8101080" y="6237360"/>
            <a:ext cx="1042920" cy="620640"/>
          </a:xfrm>
          <a:custGeom>
            <a:avLst/>
            <a:gdLst>
              <a:gd name="textAreaLeft" fmla="*/ 39960 w 1042920"/>
              <a:gd name="textAreaRight" fmla="*/ 1002960 w 10429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6288" h="21600">
                <a:moveTo>
                  <a:pt x="0" y="0"/>
                </a:moveTo>
                <a:lnTo>
                  <a:pt x="36288" y="0"/>
                </a:lnTo>
                <a:lnTo>
                  <a:pt x="36288" y="21600"/>
                </a:lnTo>
                <a:lnTo>
                  <a:pt x="0" y="21600"/>
                </a:lnTo>
                <a:close/>
              </a:path>
              <a:path fill="lightenLess" w="36288" h="21600">
                <a:moveTo>
                  <a:pt x="0" y="0"/>
                </a:moveTo>
                <a:lnTo>
                  <a:pt x="36288" y="0"/>
                </a:lnTo>
                <a:lnTo>
                  <a:pt x="34888" y="1400"/>
                </a:lnTo>
                <a:lnTo>
                  <a:pt x="1400" y="1400"/>
                </a:lnTo>
                <a:close/>
              </a:path>
              <a:path fill="darken" w="36288" h="21600">
                <a:moveTo>
                  <a:pt x="36288" y="0"/>
                </a:moveTo>
                <a:lnTo>
                  <a:pt x="36288" y="21600"/>
                </a:lnTo>
                <a:lnTo>
                  <a:pt x="34888" y="20200"/>
                </a:lnTo>
                <a:lnTo>
                  <a:pt x="34888" y="1400"/>
                </a:lnTo>
                <a:close/>
              </a:path>
              <a:path fill="darkenLess" w="36288" h="21600">
                <a:moveTo>
                  <a:pt x="36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888" y="20200"/>
                </a:lnTo>
                <a:close/>
              </a:path>
              <a:path fill="lighten" w="36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288" h="21600">
                <a:moveTo>
                  <a:pt x="14645" y="10800"/>
                </a:moveTo>
                <a:lnTo>
                  <a:pt x="25150" y="3794"/>
                </a:lnTo>
                <a:lnTo>
                  <a:pt x="25150" y="17806"/>
                </a:lnTo>
                <a:close/>
              </a:path>
              <a:path fill="darken" w="36288" h="21600">
                <a:moveTo>
                  <a:pt x="11138" y="3794"/>
                </a:moveTo>
                <a:lnTo>
                  <a:pt x="12800" y="3794"/>
                </a:lnTo>
                <a:lnTo>
                  <a:pt x="12800" y="17806"/>
                </a:lnTo>
                <a:lnTo>
                  <a:pt x="11138" y="17806"/>
                </a:lnTo>
                <a:close/>
              </a:path>
            </a:pathLst>
          </a:cu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1116000" y="1989720"/>
            <a:ext cx="7848720" cy="22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35e01"/>
                </a:solidFill>
                <a:latin typeface="Times New Roman"/>
                <a:ea typeface="Times New Roman"/>
              </a:rPr>
              <a:t>Внутренний аудит</a:t>
            </a:r>
            <a:r>
              <a:rPr b="0" lang="ru-RU" sz="2400" spc="-1" strike="noStrike">
                <a:solidFill>
                  <a:srgbClr val="835e01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аудит, осуществляемый самой организацией или другой организацией от ее имени для внутренних целей. Например, внутренний аудит может быть проведен для подтверждения результативности системы менеджмента или </a:t>
            </a:r>
            <a:r>
              <a:rPr b="0" lang="ru-RU" sz="2400" spc="-1" strike="noStrike">
                <a:solidFill>
                  <a:srgbClr val="835e01"/>
                </a:solidFill>
                <a:latin typeface="Times New Roman"/>
                <a:ea typeface="Times New Roman"/>
              </a:rPr>
              <a:t>оценки квалификации работников, а также оценки соответствия предъявляемым к ним профессиональным требова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5"/>
          <p:cNvSpPr/>
          <p:nvPr/>
        </p:nvSpPr>
        <p:spPr>
          <a:xfrm>
            <a:off x="1116000" y="4797360"/>
            <a:ext cx="802800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35e01"/>
                </a:solidFill>
                <a:latin typeface="Times New Roman"/>
                <a:ea typeface="Times New Roman"/>
              </a:rPr>
              <a:t>Внешний аудит</a:t>
            </a:r>
            <a:r>
              <a:rPr b="0" lang="ru-RU" sz="2400" spc="-1" strike="noStrike">
                <a:solidFill>
                  <a:srgbClr val="835e01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удит, проводимый независимой от образовательной организации стороной. Внешний аудит может быть осуществлен </a:t>
            </a:r>
            <a:r>
              <a:rPr b="0" lang="ru-RU" sz="2400" spc="-1" strike="noStrike">
                <a:solidFill>
                  <a:srgbClr val="835e01"/>
                </a:solidFill>
                <a:latin typeface="Times New Roman"/>
                <a:ea typeface="Times New Roman"/>
              </a:rPr>
              <a:t>надзорными органам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организациями, представляющими интересы потреб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лан работы в группах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6" name="Прямоугольник 2"/>
          <p:cNvSpPr/>
          <p:nvPr/>
        </p:nvSpPr>
        <p:spPr>
          <a:xfrm>
            <a:off x="1187280" y="1484280"/>
            <a:ext cx="7345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Что появляется нового в перечне трудовых действий, необходимых умений и знаний для учителей Вашей ступени образования/предметной обла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кие трудности могут возникнуть в связи с введением профессионального стандарта педагог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едагогическая деятельность по реализации программ основного и среднего общего образования. Трудовые действия</a:t>
            </a:r>
            <a:br>
              <a:rPr sz="1800"/>
            </a:b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250920" y="1052640"/>
          <a:ext cx="8858160" cy="5771880"/>
        </p:xfrm>
        <a:graphic>
          <a:graphicData uri="http://schemas.openxmlformats.org/drawingml/2006/table">
            <a:tbl>
              <a:tblPr/>
              <a:tblGrid>
                <a:gridCol w="8858160"/>
              </a:tblGrid>
              <a:tr h="3333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общекультурных компетенций и понимания места предмета в общей картине ми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04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на основе анализа учебной деятельности обучающегося оптимальных (в том или ином предметном образовательном контексте) способов его обучения и разви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032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 совместно с обучающимся, его родителями (законными представителями), другими участниками образовательного процесса (педагог-психолог, учитель-дефектолог, методист и т. д.)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ны его ближайшего развития, разработка и реализация (при необходимости) индивидуального образовательного маршрута и индивидуальной программы развития обучающих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032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ование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зированного образовательного процесса для группы, класса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/или отдельных контингентов обучающихся с выдающимися способностями  и/или особыми образовательными потребностями на основе имеющихся типовых программ и собственных разработок с учетом специфики состава обучающихся, уточнение и модификация планир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084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нение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ьных языковых программ (в том числе русского как иностранного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программ повышения языковой культуры, и развития навыков поликультурного общ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86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местное с учащимися использование иноязычных источников информации, инструментов перевода, произнош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1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олимпиад, конференций, турниров математических и лингвистических игр в школе и д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Gill Sans MT"/>
              </a:rPr>
              <a:t>УТВЕРЖДЕН </a:t>
            </a:r>
            <a:br>
              <a:rPr sz="3900"/>
            </a:br>
            <a:r>
              <a:rPr b="0" lang="ru-RU" sz="1600" spc="-1" strike="noStrike">
                <a:solidFill>
                  <a:srgbClr val="572314"/>
                </a:solidFill>
                <a:latin typeface="Gill Sans MT"/>
              </a:rPr>
              <a:t>приказом Министерства труда и социальной защиты Российской Федерации </a:t>
            </a:r>
            <a:br>
              <a:rPr sz="1600"/>
            </a:br>
            <a:r>
              <a:rPr b="0" lang="ru-RU" sz="1600" spc="-1" strike="noStrike">
                <a:solidFill>
                  <a:srgbClr val="572314"/>
                </a:solidFill>
                <a:latin typeface="Gill Sans MT"/>
              </a:rPr>
              <a:t>от «18» октября 2013 г. № 544н</a:t>
            </a:r>
            <a:br>
              <a:rPr sz="1600"/>
            </a:br>
            <a:endParaRPr b="0" lang="en-US" sz="1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700280"/>
            <a:ext cx="749952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ЫЙ СТАНДАР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едагог (педагогическая деятельность в дошкольном, начальном общем, основном общем, среднем общем образовании)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оспитатель, учитель)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едагогическая деятельность по реализации программ основного и среднего общего образования. Необходимые умения</a:t>
            </a:r>
            <a:endParaRPr b="0" lang="en-US" sz="16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324000" y="1268280"/>
          <a:ext cx="8572320" cy="5348520"/>
        </p:xfrm>
        <a:graphic>
          <a:graphicData uri="http://schemas.openxmlformats.org/drawingml/2006/table">
            <a:tbl>
              <a:tblPr/>
              <a:tblGrid>
                <a:gridCol w="8572320"/>
              </a:tblGrid>
              <a:tr h="8226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нять современные образовательные технологии, включая информационные, а также цифровые образовательные ресурс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45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одить учебные занятия, опираясь на достижения в области педагогической и психологической наук, возрастной физиологии и школьной гигиены, а также современных информационных технологий и методик обуче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224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овать и осуществлять учебный процесс в соответствии с основной общеобразовательной программо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08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атывать рабочую программу по предмету, курсу на основе примерных основных общеобразовательных программ и обеспечивать ее выполнение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5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овать самостоятельную деятельность обучающихся, в том числе исследовательску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413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атывать и реализовывать проблемное обучение, осуществлять связь обучения по предмету (курсу, программе) с практикой, обсуждать с обучающимися актуальные события современ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7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ществлять контрольно-оценочную деятельность в образовательном процесс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едагогическая деятельность по реализации программ основного и среднего общего образования. Необходимые умения</a:t>
            </a:r>
            <a:endParaRPr b="0" lang="en-US" sz="14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395280" y="907920"/>
          <a:ext cx="8501040" cy="5726160"/>
        </p:xfrm>
        <a:graphic>
          <a:graphicData uri="http://schemas.openxmlformats.org/drawingml/2006/table">
            <a:tbl>
              <a:tblPr/>
              <a:tblGrid>
                <a:gridCol w="8501040"/>
              </a:tblGrid>
              <a:tr h="14209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ть современные способы оценивания в условиях информационно-коммуникационных технологий (ведение электронных форм документации, в том числе электронного журнала и дневников обучающихс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191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ть разнообразные формы, приемы, методы и средства обучения, в том числе по индивидуальным учебным планам,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коренным курсам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рамках федеральных государственных образовательных стандартов основного общего образования и среднего общего образ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52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деть основами работы с текстовыми редакторами, электронными таблицами, электронной почтой и браузерами, мультимедийным оборудование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3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деть методами убеждения, аргументации своей позици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49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авливать контакты с обучающимися разного возраста и их родителями (законными представителями), другими педагогическими и иными работникам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1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деть технологиями диагностики причин конфликтных ситуаций, их профилактики и разреш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едагогическая деятельность по реализации программ основного и среднего общего образования. Необходимые знания</a:t>
            </a:r>
            <a:endParaRPr b="0" lang="en-US" sz="14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468360" y="981000"/>
          <a:ext cx="8427960" cy="5688000"/>
        </p:xfrm>
        <a:graphic>
          <a:graphicData uri="http://schemas.openxmlformats.org/drawingml/2006/table">
            <a:tbl>
              <a:tblPr/>
              <a:tblGrid>
                <a:gridCol w="8427960"/>
              </a:tblGrid>
              <a:tr h="13366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ы общетеоретических дисциплин в объеме, необходимых для решения педагогических, научно-методических и организационно-управленческих задач (педагогика, психология, возрастная физиология; школьная гигиена; методика преподавания предмет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раммы и учебники по преподаваемому предмету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366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ория и методы управления образовательными системами, методика учебной и воспитательной работы, требования к оснащению и оборудованию учебных кабинетов и подсобных помещений к ним, средства обучения и их дидактические возможн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12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ременные педагогические технологии реализации компетентностного подхода с учетом возрастных и индивидуальных особенностей обучающих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ы и технологии поликультурного, дифференцированного и развивающего об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ы экологии, экономики, социологии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55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а внутреннего распорядк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а по охране труда и требования к безопасности образовательной сре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2"/>
          <p:cNvSpPr/>
          <p:nvPr/>
        </p:nvSpPr>
        <p:spPr>
          <a:xfrm>
            <a:off x="1187280" y="1165680"/>
            <a:ext cx="7777440" cy="53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7120" indent="-357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одаренными учащими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в условиях реализации программ </a:t>
            </a:r>
            <a:r>
              <a:rPr b="0" lang="ru-RU" sz="28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инклюзивного образова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учащимися, имеющими проблемы в развит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девиантными, зависимыми, социально запущенными и социально уязвимыми учащимися, имеющими серьезные отклонения в поведе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давание русского языка учащимся, для которых он не является род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4" descr="Рисунок2"/>
          <p:cNvPicPr/>
          <p:nvPr/>
        </p:nvPicPr>
        <p:blipFill>
          <a:blip r:embed="rId2"/>
          <a:stretch/>
        </p:blipFill>
        <p:spPr>
          <a:xfrm>
            <a:off x="324000" y="189000"/>
            <a:ext cx="515880" cy="109512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5"/>
          <p:cNvSpPr/>
          <p:nvPr/>
        </p:nvSpPr>
        <p:spPr>
          <a:xfrm>
            <a:off x="839880" y="549360"/>
            <a:ext cx="812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обходимость наполнения профессионального стандарта педагога новыми компетенция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80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Цель</a:t>
            </a:r>
            <a:r>
              <a:rPr b="0" lang="ru-RU" sz="39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: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116000" y="907560"/>
            <a:ext cx="7818480" cy="534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условий для включения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ого коллектива школы в изучение профессионального  стандарта педагога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Задачи:</a:t>
            </a:r>
            <a:endParaRPr b="0" lang="en-US" sz="3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положения стандарта педагога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анализировать отдельные пункты стандарта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4" descr="Рисунок1"/>
          <p:cNvPicPr/>
          <p:nvPr/>
        </p:nvPicPr>
        <p:blipFill>
          <a:blip r:embed="rId1"/>
          <a:stretch/>
        </p:blipFill>
        <p:spPr>
          <a:xfrm>
            <a:off x="0" y="189000"/>
            <a:ext cx="952560" cy="74304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6"/>
          <p:cNvSpPr/>
          <p:nvPr/>
        </p:nvSpPr>
        <p:spPr>
          <a:xfrm>
            <a:off x="0" y="907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чем нужен профессиональный стандарт педаг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8"/>
          <p:cNvSpPr/>
          <p:nvPr/>
        </p:nvSpPr>
        <p:spPr>
          <a:xfrm>
            <a:off x="3276720" y="1557360"/>
            <a:ext cx="5724360" cy="792000"/>
          </a:xfrm>
          <a:prstGeom prst="rect">
            <a:avLst/>
          </a:prstGeom>
          <a:solidFill>
            <a:srgbClr val="ccffcc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9"/>
          <p:cNvSpPr/>
          <p:nvPr/>
        </p:nvSpPr>
        <p:spPr>
          <a:xfrm>
            <a:off x="3408480" y="2565360"/>
            <a:ext cx="5724360" cy="936720"/>
          </a:xfrm>
          <a:prstGeom prst="rect">
            <a:avLst/>
          </a:prstGeom>
          <a:solidFill>
            <a:srgbClr val="ccffcc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1"/>
          <p:cNvSpPr/>
          <p:nvPr/>
        </p:nvSpPr>
        <p:spPr>
          <a:xfrm>
            <a:off x="3276720" y="3862440"/>
            <a:ext cx="5724360" cy="792000"/>
          </a:xfrm>
          <a:prstGeom prst="rect">
            <a:avLst/>
          </a:prstGeom>
          <a:solidFill>
            <a:srgbClr val="ccffcc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2"/>
          <p:cNvSpPr/>
          <p:nvPr/>
        </p:nvSpPr>
        <p:spPr>
          <a:xfrm>
            <a:off x="3276720" y="4726080"/>
            <a:ext cx="5724360" cy="792000"/>
          </a:xfrm>
          <a:prstGeom prst="rect">
            <a:avLst/>
          </a:prstGeom>
          <a:solidFill>
            <a:srgbClr val="ccffcc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3"/>
          <p:cNvSpPr/>
          <p:nvPr/>
        </p:nvSpPr>
        <p:spPr>
          <a:xfrm>
            <a:off x="3276720" y="5589720"/>
            <a:ext cx="5724360" cy="1058760"/>
          </a:xfrm>
          <a:prstGeom prst="rect">
            <a:avLst/>
          </a:prstGeom>
          <a:solidFill>
            <a:srgbClr val="ccffcc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4"/>
          <p:cNvSpPr/>
          <p:nvPr/>
        </p:nvSpPr>
        <p:spPr>
          <a:xfrm>
            <a:off x="324000" y="3643200"/>
            <a:ext cx="25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андарт это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8" name="AutoShape 15"/>
          <p:cNvCxnSpPr>
            <a:stCxn id="337" idx="3"/>
            <a:endCxn id="332" idx="1"/>
          </p:cNvCxnSpPr>
          <p:nvPr/>
        </p:nvCxnSpPr>
        <p:spPr>
          <a:xfrm flipV="1">
            <a:off x="2916000" y="1953720"/>
            <a:ext cx="361080" cy="1978560"/>
          </a:xfrm>
          <a:prstGeom prst="straightConnector1">
            <a:avLst/>
          </a:prstGeom>
          <a:ln w="19080">
            <a:solidFill>
              <a:srgbClr val="0000cc"/>
            </a:solidFill>
            <a:miter/>
            <a:tailEnd len="med" type="triangle" w="med"/>
          </a:ln>
        </p:spPr>
      </p:cxnSp>
      <p:cxnSp>
        <p:nvCxnSpPr>
          <p:cNvPr id="339" name="AutoShape 16"/>
          <p:cNvCxnSpPr>
            <a:stCxn id="337" idx="3"/>
            <a:endCxn id="333" idx="1"/>
          </p:cNvCxnSpPr>
          <p:nvPr/>
        </p:nvCxnSpPr>
        <p:spPr>
          <a:xfrm flipV="1">
            <a:off x="2916000" y="3033360"/>
            <a:ext cx="492840" cy="899280"/>
          </a:xfrm>
          <a:prstGeom prst="straightConnector1">
            <a:avLst/>
          </a:prstGeom>
          <a:ln w="19080">
            <a:solidFill>
              <a:srgbClr val="0000cc"/>
            </a:solidFill>
            <a:miter/>
            <a:tailEnd len="med" type="triangle" w="med"/>
          </a:ln>
        </p:spPr>
      </p:cxnSp>
      <p:cxnSp>
        <p:nvCxnSpPr>
          <p:cNvPr id="340" name="AutoShape 17"/>
          <p:cNvCxnSpPr>
            <a:stCxn id="337" idx="3"/>
            <a:endCxn id="334" idx="1"/>
          </p:cNvCxnSpPr>
          <p:nvPr/>
        </p:nvCxnSpPr>
        <p:spPr>
          <a:xfrm>
            <a:off x="2916000" y="3932280"/>
            <a:ext cx="361080" cy="327600"/>
          </a:xfrm>
          <a:prstGeom prst="straightConnector1">
            <a:avLst/>
          </a:prstGeom>
          <a:ln w="19080">
            <a:solidFill>
              <a:srgbClr val="0000cc"/>
            </a:solidFill>
            <a:miter/>
            <a:tailEnd len="med" type="triangle" w="med"/>
          </a:ln>
        </p:spPr>
      </p:cxnSp>
      <p:cxnSp>
        <p:nvCxnSpPr>
          <p:cNvPr id="341" name="AutoShape 18"/>
          <p:cNvCxnSpPr>
            <a:stCxn id="337" idx="3"/>
            <a:endCxn id="335" idx="1"/>
          </p:cNvCxnSpPr>
          <p:nvPr/>
        </p:nvCxnSpPr>
        <p:spPr>
          <a:xfrm>
            <a:off x="2916000" y="3931920"/>
            <a:ext cx="361080" cy="1191240"/>
          </a:xfrm>
          <a:prstGeom prst="straightConnector1">
            <a:avLst/>
          </a:prstGeom>
          <a:ln w="19080">
            <a:solidFill>
              <a:srgbClr val="0000cc"/>
            </a:solidFill>
            <a:miter/>
            <a:tailEnd len="med" type="triangle" w="med"/>
          </a:ln>
        </p:spPr>
      </p:cxnSp>
      <p:cxnSp>
        <p:nvCxnSpPr>
          <p:cNvPr id="342" name="AutoShape 19"/>
          <p:cNvCxnSpPr>
            <a:stCxn id="337" idx="3"/>
            <a:endCxn id="336" idx="1"/>
          </p:cNvCxnSpPr>
          <p:nvPr/>
        </p:nvCxnSpPr>
        <p:spPr>
          <a:xfrm>
            <a:off x="2916000" y="3932280"/>
            <a:ext cx="361080" cy="2188080"/>
          </a:xfrm>
          <a:prstGeom prst="straightConnector1">
            <a:avLst/>
          </a:prstGeom>
          <a:ln w="19080">
            <a:solidFill>
              <a:srgbClr val="0000c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4" descr="Рисунок1"/>
          <p:cNvPicPr/>
          <p:nvPr/>
        </p:nvPicPr>
        <p:blipFill>
          <a:blip r:embed="rId1"/>
          <a:stretch/>
        </p:blipFill>
        <p:spPr>
          <a:xfrm>
            <a:off x="0" y="189000"/>
            <a:ext cx="952560" cy="74304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6"/>
          <p:cNvSpPr/>
          <p:nvPr/>
        </p:nvSpPr>
        <p:spPr>
          <a:xfrm>
            <a:off x="0" y="907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чем нужен профессиональный стандарт педаг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8"/>
          <p:cNvSpPr/>
          <p:nvPr/>
        </p:nvSpPr>
        <p:spPr>
          <a:xfrm>
            <a:off x="3276720" y="1557360"/>
            <a:ext cx="5724360" cy="792000"/>
          </a:xfrm>
          <a:prstGeom prst="rect">
            <a:avLst/>
          </a:prstGeom>
          <a:solidFill>
            <a:srgbClr val="ccffcc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струмент реализации стратегии образования в меняющемся ми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9"/>
          <p:cNvSpPr/>
          <p:nvPr/>
        </p:nvSpPr>
        <p:spPr>
          <a:xfrm>
            <a:off x="3276720" y="2421000"/>
            <a:ext cx="5724360" cy="1368360"/>
          </a:xfrm>
          <a:prstGeom prst="rect">
            <a:avLst/>
          </a:prstGeom>
          <a:solidFill>
            <a:srgbClr val="ccffcc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струмент повышения качества образования и выхода отечественного образования на международны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1"/>
          <p:cNvSpPr/>
          <p:nvPr/>
        </p:nvSpPr>
        <p:spPr>
          <a:xfrm>
            <a:off x="3276720" y="3862440"/>
            <a:ext cx="5724360" cy="792000"/>
          </a:xfrm>
          <a:prstGeom prst="rect">
            <a:avLst/>
          </a:prstGeom>
          <a:solidFill>
            <a:srgbClr val="ccffcc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ктивный измеритель квалификации педаг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2"/>
          <p:cNvSpPr/>
          <p:nvPr/>
        </p:nvSpPr>
        <p:spPr>
          <a:xfrm>
            <a:off x="3276720" y="4726080"/>
            <a:ext cx="5724360" cy="792000"/>
          </a:xfrm>
          <a:prstGeom prst="rect">
            <a:avLst/>
          </a:prstGeom>
          <a:solidFill>
            <a:srgbClr val="ccffcc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ство отбора педагогических кадров в учреждения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3"/>
          <p:cNvSpPr/>
          <p:nvPr/>
        </p:nvSpPr>
        <p:spPr>
          <a:xfrm>
            <a:off x="3276720" y="5589720"/>
            <a:ext cx="5724360" cy="1058760"/>
          </a:xfrm>
          <a:prstGeom prst="rect">
            <a:avLst/>
          </a:prstGeom>
          <a:solidFill>
            <a:srgbClr val="ccffcc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а для формирования трудового договора, фиксирующего отношения между работником и работодате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4"/>
          <p:cNvSpPr/>
          <p:nvPr/>
        </p:nvSpPr>
        <p:spPr>
          <a:xfrm>
            <a:off x="324000" y="3643200"/>
            <a:ext cx="25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андарт это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1" name="AutoShape 15"/>
          <p:cNvCxnSpPr>
            <a:stCxn id="350" idx="3"/>
            <a:endCxn id="345" idx="1"/>
          </p:cNvCxnSpPr>
          <p:nvPr/>
        </p:nvCxnSpPr>
        <p:spPr>
          <a:xfrm flipV="1">
            <a:off x="2916000" y="1953720"/>
            <a:ext cx="361080" cy="1978560"/>
          </a:xfrm>
          <a:prstGeom prst="straightConnector1">
            <a:avLst/>
          </a:prstGeom>
          <a:ln w="19080">
            <a:solidFill>
              <a:srgbClr val="0000cc"/>
            </a:solidFill>
            <a:miter/>
            <a:tailEnd len="med" type="triangle" w="med"/>
          </a:ln>
        </p:spPr>
      </p:cxnSp>
      <p:cxnSp>
        <p:nvCxnSpPr>
          <p:cNvPr id="352" name="AutoShape 16"/>
          <p:cNvCxnSpPr>
            <a:stCxn id="350" idx="3"/>
            <a:endCxn id="346" idx="1"/>
          </p:cNvCxnSpPr>
          <p:nvPr/>
        </p:nvCxnSpPr>
        <p:spPr>
          <a:xfrm flipV="1">
            <a:off x="2916000" y="3104640"/>
            <a:ext cx="361080" cy="828000"/>
          </a:xfrm>
          <a:prstGeom prst="straightConnector1">
            <a:avLst/>
          </a:prstGeom>
          <a:ln w="19080">
            <a:solidFill>
              <a:srgbClr val="0000cc"/>
            </a:solidFill>
            <a:miter/>
            <a:tailEnd len="med" type="triangle" w="med"/>
          </a:ln>
        </p:spPr>
      </p:cxnSp>
      <p:cxnSp>
        <p:nvCxnSpPr>
          <p:cNvPr id="353" name="AutoShape 17"/>
          <p:cNvCxnSpPr>
            <a:stCxn id="350" idx="3"/>
            <a:endCxn id="347" idx="1"/>
          </p:cNvCxnSpPr>
          <p:nvPr/>
        </p:nvCxnSpPr>
        <p:spPr>
          <a:xfrm>
            <a:off x="2916000" y="3932280"/>
            <a:ext cx="361080" cy="327600"/>
          </a:xfrm>
          <a:prstGeom prst="straightConnector1">
            <a:avLst/>
          </a:prstGeom>
          <a:ln w="19080">
            <a:solidFill>
              <a:srgbClr val="0000cc"/>
            </a:solidFill>
            <a:miter/>
            <a:tailEnd len="med" type="triangle" w="med"/>
          </a:ln>
        </p:spPr>
      </p:cxnSp>
      <p:cxnSp>
        <p:nvCxnSpPr>
          <p:cNvPr id="354" name="AutoShape 18"/>
          <p:cNvCxnSpPr>
            <a:stCxn id="350" idx="3"/>
            <a:endCxn id="348" idx="1"/>
          </p:cNvCxnSpPr>
          <p:nvPr/>
        </p:nvCxnSpPr>
        <p:spPr>
          <a:xfrm>
            <a:off x="2916000" y="3931920"/>
            <a:ext cx="361080" cy="1191240"/>
          </a:xfrm>
          <a:prstGeom prst="straightConnector1">
            <a:avLst/>
          </a:prstGeom>
          <a:ln w="19080">
            <a:solidFill>
              <a:srgbClr val="0000cc"/>
            </a:solidFill>
            <a:miter/>
            <a:tailEnd len="med" type="triangle" w="med"/>
          </a:ln>
        </p:spPr>
      </p:cxnSp>
      <p:cxnSp>
        <p:nvCxnSpPr>
          <p:cNvPr id="355" name="AutoShape 19"/>
          <p:cNvCxnSpPr>
            <a:stCxn id="350" idx="3"/>
            <a:endCxn id="349" idx="1"/>
          </p:cNvCxnSpPr>
          <p:nvPr/>
        </p:nvCxnSpPr>
        <p:spPr>
          <a:xfrm>
            <a:off x="2916000" y="3932280"/>
            <a:ext cx="361080" cy="2188080"/>
          </a:xfrm>
          <a:prstGeom prst="straightConnector1">
            <a:avLst/>
          </a:prstGeom>
          <a:ln w="19080">
            <a:solidFill>
              <a:srgbClr val="0000c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Прямоугольник 1"/>
          <p:cNvSpPr/>
          <p:nvPr/>
        </p:nvSpPr>
        <p:spPr>
          <a:xfrm>
            <a:off x="539640" y="1628640"/>
            <a:ext cx="5365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ае 2012 года президент РФ Владимир Путин поручил разработать профессиональные стандарты для учителей русского языка и матема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4"/>
          <p:cNvSpPr/>
          <p:nvPr/>
        </p:nvSpPr>
        <p:spPr>
          <a:xfrm>
            <a:off x="539640" y="260280"/>
            <a:ext cx="8320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Garamond"/>
              </a:rPr>
              <a:t>Немного из истории  Стандарта</a:t>
            </a:r>
            <a:r>
              <a:rPr b="0" lang="ru-RU" sz="4400" spc="-1" strike="noStrike">
                <a:solidFill>
                  <a:srgbClr val="cc33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" descr="E:\профстандарт педагога\педсовет Дулесово\img099.jpg"/>
          <p:cNvPicPr/>
          <p:nvPr/>
        </p:nvPicPr>
        <p:blipFill>
          <a:blip r:embed="rId1"/>
          <a:stretch/>
        </p:blipFill>
        <p:spPr>
          <a:xfrm>
            <a:off x="5508720" y="2349360"/>
            <a:ext cx="3351240" cy="38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Концепция Стандарт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ое профессиональное качество, которое педагог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ен постоянно демонстрировать своим ученикам – 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учиться 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3"/>
          <p:cNvSpPr/>
          <p:nvPr/>
        </p:nvSpPr>
        <p:spPr>
          <a:xfrm>
            <a:off x="0" y="836640"/>
            <a:ext cx="91440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арактеристика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стандар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2"/>
          <p:cNvSpPr/>
          <p:nvPr/>
        </p:nvSpPr>
        <p:spPr>
          <a:xfrm>
            <a:off x="395280" y="1670760"/>
            <a:ext cx="8424720" cy="36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7120" indent="-35712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Профессиональный стандарт педагога</a:t>
            </a:r>
            <a:r>
              <a:rPr b="0" lang="ru-RU" sz="28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мочный докумен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котором определяю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ребования к его </a:t>
            </a:r>
            <a:r>
              <a:rPr b="0" lang="ru-RU" sz="28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квалифика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национальная рамка стандарта может быть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ена </a:t>
            </a:r>
            <a:r>
              <a:rPr b="0" lang="ru-RU" sz="28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региональными требования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учитывающими социокультурные, демографические и прочие особенности данной территории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2"/>
          <p:cNvSpPr/>
          <p:nvPr/>
        </p:nvSpPr>
        <p:spPr>
          <a:xfrm>
            <a:off x="468360" y="1669680"/>
            <a:ext cx="8461440" cy="38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7120" indent="-35712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ый стандарт педагога может быть такж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ен </a:t>
            </a:r>
            <a:r>
              <a:rPr b="0" lang="ru-RU" sz="24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внутренним стандартом образовательного учреждения</a:t>
            </a:r>
            <a:r>
              <a:rPr b="0" lang="ru-RU" sz="24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 аналогии со стандартом предприятия), в соответствии со спецификой реализуемых в данном учреждении образовательных программ (школа для одаренных, инклюзивная школа и т.п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ый стандарт педагога являетс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невы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учитывающим специфику работы педагогов в дошкольных учреждениях, начальной, основной и старшей шк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3"/>
          <p:cNvSpPr/>
          <p:nvPr/>
        </p:nvSpPr>
        <p:spPr>
          <a:xfrm>
            <a:off x="0" y="836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арактеристика стандар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8T10:31:00Z</dcterms:created>
  <dc:creator>СЕРГЕЙ</dc:creator>
  <dc:description/>
  <dc:language>en-US</dc:language>
  <cp:lastModifiedBy>USERZAV</cp:lastModifiedBy>
  <dcterms:modified xsi:type="dcterms:W3CDTF">2016-02-25T12:36:47Z</dcterms:modified>
  <cp:revision>72</cp:revision>
  <dc:subject/>
  <dc:title>Слайд 1</dc:title>
</cp:coreProperties>
</file>